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start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3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7A12-BC0B-40C6-89D5-63FC6982F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AFC5-415B-4D40-90CC-A97B41CA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386F0-ABD3-4D7D-B81F-9A537892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CC905E-3B33-4138-89E2-D5EB8915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103967-AF38-4111-AB83-479E3955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6EBA7-414C-4275-A244-982121A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C8B287-C31F-4197-8333-0AD60444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93A026-20FB-4EC6-8801-DD136D7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6D58C2-7B14-40A3-9491-09705DD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95318F-FDA2-42F3-8814-C79A3EC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92CFB-F1CE-4345-BF07-15A57FA0B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4CBE-B414-4626-89A5-929415DFD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A13D-F8C3-4C36-9BE0-2269295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F615-0BC4-48ED-B544-A206437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E93E-4672-423C-AC6A-63F3E395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8CA9-407B-4439-B16E-34328BE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03B4-671A-417A-9D50-E4010968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2A3D-07E6-49DE-AACE-BC856A25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13F0-A84C-434E-8857-B3A897D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0297-430F-42DA-A3AE-299D32B0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7BDE-0351-44FC-B240-6F27103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293B-2C28-4030-B7BC-75EF3F73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337C-9463-4DBE-B236-499D13E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429A-45E5-4D85-AD50-2096DFAC6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9858-9937-4337-AC0F-BF2B69B2B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405D9-E084-41ED-B6EC-4F8FDA0607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7CA9C6-CB13-458E-B105-80AD4C8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5EFD9-71B9-4D02-BD5E-8535337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D60E0-C871-4301-9815-407CA03F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B613A-DF75-43EB-8011-C5ADF084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FFB24-46C1-40C0-B487-3BC6FEA8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390E7-2A8E-4821-87C8-8E71DA6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8F839-C2D7-4EBE-9611-32FE4CA2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BD54E-5804-4B3D-A25C-F6C032E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6B801-C3E0-4619-867E-C8B591570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5731B-2F88-4FD4-8388-A7F17D66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839BA-31F6-4790-9ADF-FA464D3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D2988-C48C-4F1B-9B2E-56FA8561C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766E0-44B2-45BD-9DF2-56EE275A9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988A9-C23F-4C19-86F0-6589D08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B32BC-C47D-47E4-B74C-E517BDDA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BAC74-6A9D-4555-AD80-880CA75E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B3B91-FA17-4BAE-9E63-ABEF5569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D78B3-37E8-4064-BFD9-98F2F9D9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70AFF-1750-4EBA-A157-D9CEEAE2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5EDE6-BAE0-45B1-8A18-6635BE35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8D9A1-A57D-489D-BA44-96926F8A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878AA-8451-438D-B3AD-D74AAD23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7D2F7-32C6-46E8-BF4E-FB9CD65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6B6FA-A8BE-4B78-8BA5-E9A890A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B14CF-09AE-4BDC-9D98-55ADF944D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FE93-6B86-4C59-8BDA-D9D4B48FF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E1791-5E24-4352-8484-AECACE6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F592F-EB08-40C3-BD35-60C6CADF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99161-538D-4C85-BEF6-3614C15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2E0F-27AE-494E-B07E-F58D8D74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C1499-0633-47F8-A104-336B3D3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D93D-6EEA-4F87-B375-78DE0B82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93226-706C-4340-9E26-012AD160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B0E05-B513-489D-9DA8-415B674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B1634-BC89-470E-9BE4-99E343AC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5B241-0A0C-4A7A-ADCD-68BA194D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05A1E-47EC-4D50-A3B9-BB8539F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DB84E-16BE-4F90-A9D1-CC6C509DF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AF55C7-9A34-4226-86FF-EEB7241AE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A9D6FD-B338-408E-8E6D-67C527EA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9516EE-D07B-46F6-9A01-78B86510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95EF-901D-4F80-BEE0-8A8E977B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D55739-FA76-4757-96B6-ABD064C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7D318-AEB0-45D8-893E-61D8647B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02FE88-3CD7-42C6-94F7-4FDDADE8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60B3B-D33B-4B39-A599-5792671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30488F-86E6-4EB3-AB1C-1B424DE3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CC7F8-CF4E-4011-916C-C57D915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88BC39-9AC4-4D52-AB8A-89DB091F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383A1B-BF10-4895-93E0-5BBD26A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B8F3A-53AE-430C-8FB2-4331E7264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91C5C0-0CAA-4735-98C0-5F720A49B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71300-31EA-456B-AB3E-3F20901C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CB180D-7787-443E-81C5-CA45A166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C72E80-EBA7-4F27-A707-89445ECE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CA17E6-1DBA-4A93-B9D7-266C9BB6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4F8B83-0A55-4D34-9E37-39DD06C6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2E5E79-B8A1-474C-AEDB-BC419F88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1530A-E3A3-4A42-BB19-CE19265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49B761-E8AE-4692-B04B-0C1E7453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3AD5FA-6C9D-4A78-971D-738C2493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57C8FA-6002-4F7D-B132-DC72907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D02492-05AE-4AD1-8715-1013C01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74273-7ED7-4BCD-82DF-A77BC790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E17CE2-487F-4045-BD2A-55231CC80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AACE-944A-4B5B-872C-4F56512CB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D6028-0239-40CA-BE04-6E0077EB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FF353-2011-4F81-B265-DA445E9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7DA17-F06A-46FE-BB4E-007B0F3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EB8A3-01AE-4FB8-8138-A7F7E8A9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32ECD-28C1-4D1A-9FCC-D365E793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9697E-8439-4A5B-A61F-0FC2364B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75CEB-64BE-4C6C-ACC6-17DE111E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932E1-9B34-4CD9-9489-E58EED43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55EEA-1089-4450-9C40-B28FCA1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2B7E2-0CFC-41BB-A372-2C197E5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0D323-1105-43E1-B49E-097FA57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69141-334C-486B-979E-DA311F53C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805593-2F0B-43AD-85B4-FD2300FC1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68FCF4-CD36-4AB4-A9E9-44637DC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FC499A-9E4F-4D8C-A2DB-E23CE09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854452-922B-42CE-9958-C23DCCB7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745361-35A0-4860-AFA7-B4E367D5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B8D17B-A711-43F3-8D27-1C36572F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88CCC0-32E1-47BE-835E-55A78CB9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6C3B-0F25-4C6F-B77B-9592A573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BED1-0314-46FA-860E-E39E3CB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E99F0C-B037-4E3A-BBBF-22F20D0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FD950E-F48C-4DA3-8472-2E8157E0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DB5354-0D6C-44E2-8319-89848294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8AD488-9626-4AC4-B8EA-9285586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927BC8-E134-44BF-B564-60ED52D94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A0F8A2-CE16-46DB-BAA0-4FDD51D678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3114FE-B435-4589-A936-323B68E0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1169AE-B03C-41EE-9EA0-4EF9926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6CA60D-279F-4975-9FD2-7111C90D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9CD229-AB8D-436A-8F82-6141DC24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70CB-2F19-4D36-A7DA-96F1825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3F9699-6B78-4436-9248-645D6B05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DF95E9-B1DF-4CC8-A642-8F3210BF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CC562C-5DA9-4443-963D-E05C6822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661C4E-6470-4151-89BE-36E17D72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59CE57-A30F-4BE8-BF12-F1296DF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F68814-F8E4-40D3-8876-113ADEA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E921AA-D4F4-49E3-AECB-8F869E0E9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D25B7-996D-4B3F-B51B-499F837EF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2FDC8-2420-4192-B019-BD885E0C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D9BEA-3276-4732-A844-DF4CFB6E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184E2-B510-4EFF-A536-7E37AFE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25456-66A5-4C0D-A66A-975AE61C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E85DE-1E0B-46C5-AE02-4ACB8C04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88DB3-DEC1-49EB-8402-7DF33FD9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BECC8-B24B-46C0-BCDF-06C172F9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FBCA7-9222-41B8-A3F2-BCB3F3B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C4362-CBB2-4BD4-85B0-B50D66BE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D53FF-EBE1-4F4C-BF59-3DBE9C6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2E40A-38C0-462D-9EDC-AA5B552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B486C-7C07-478D-9F42-22965E07C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5F8E77-C601-4992-8BA4-A567DFE4F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E9888-594D-49CF-9A1E-6D2FEE3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8C3D14-C785-470A-A112-97083B55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738E0B-E59C-4E11-829F-C3F74233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964D08-E428-47F5-A4ED-A270AB9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3A6671-6EA8-4B4A-8F12-FEE082FD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553399-9DB5-4D00-9793-E03D8DDC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8ED68C-D5CC-4095-926B-83231193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663DCD-9170-47F4-9F05-4A166BC5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A691C0-0390-49FE-894A-E33E2A1E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C8C316-7F42-420A-AA3B-D796C99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930FC6-FDFF-489B-8DDC-02B7571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6876A-2687-48ED-A0B1-C5B701F83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CBD241-023D-4063-A4D6-3F584DB8C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B12D70-F3AC-42BC-BF4A-DF69F421F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8FD6CD-463B-4E61-A0CF-BDCE92D7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1A7047-FF94-4A68-A4B6-F13C4496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B324CE-2718-4995-ADDF-18C18891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BF7E8A-93B3-4BC3-A4E5-AD558B60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E5C4E2-5A2D-40DE-B09A-0643D15F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66EC87-E28B-414A-8EA3-67A92BE7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86B778-48C4-4F74-A7D8-78DA8233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3FC502-A58E-4E11-B96C-2781718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9684E-F138-4E83-AE79-AAFDF072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F89A35-D0BF-46F8-BCDA-7104049F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CCDD70-99E3-4C59-B9CB-3E51871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0C636F-7329-4790-9B57-74C633932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89BBC-CF57-44E9-A6EC-45CABDAB6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46CB4-76BC-407B-B1FA-037C214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3A4B6-19B2-4CBC-922A-8409F60A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A5F92-7632-46DB-8DF9-2E8D2B9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D6118-6184-496C-BE8B-5D7B51B0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A92F2-BDB3-4BBF-8A33-CFAC177A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BCD8A-4B65-4833-A50B-93B3462A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D31D0-65E2-42B5-934F-02C71626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9365E-60ED-4238-8B50-762E1264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59412-6F5F-423F-B20C-B00EF7F1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5D89F-73B3-4944-A0B7-BFA926CC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37573-FB8D-4C23-A27F-34CA0CB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536A8-2C9E-4B85-8944-121F730170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2843AE-3657-408B-A8C8-01707CED5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14ACE5-A3E2-410F-B0D9-15FA719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DACEBE-0217-4656-9EA5-32F0C7B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D9E505-7680-4D0B-B39F-0ECF94E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5F8DA8-B446-4E7A-8738-E66B54CF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6F98A-0073-4516-9790-A31DA386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4A6DBA-6655-4CCD-A59D-DB23E0C1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FB7DA7-0121-432F-844C-026E82A7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DB23CE-975C-4147-B47A-80813CAE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B3F197-1D30-4E83-8FA0-8797282F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A6E773-03D0-46E0-9E8D-22B25AB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78CB3D-2CF1-48E5-97F0-3A18E92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A96B49-D9D0-4CAB-BDAD-F7BBCC765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8E9221-7497-44B7-BCED-5C16BA6B6A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B23E20-DE36-446E-AE94-8F531869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89632B-772A-4051-9C5B-F8C9D8D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E9576-1511-46AD-847D-7355291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484FE8-B27F-41E9-B889-35C7079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2D7CE4-10C0-4824-A645-821DAA87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5CCFD4-59AE-4185-A08E-72F72D6F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E956EE-9D05-4681-88B3-5E571196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83C2CE-B4C1-46A4-8072-CE3725BF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E8C66F-2A08-4747-BAB5-CD0C79AA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39A170-26DD-4B1E-A3E6-BB81ABD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FEDA2B-6D20-4846-8306-D40434A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C0102F-BEDF-47B4-98C0-026002F01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5AA79-35DD-4B91-88A7-6EDD845B2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FF544-C990-4B8B-84BB-E3B4485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A7D36-8EE3-44BE-95FD-4FAA0ED7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4F935-7ED3-408F-BFEA-242CDAEF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88859-24EE-4266-8BF1-E9B6364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7DC4D-0AEF-42F9-B16D-BC6DC3FD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30ED1-18E8-4D12-B3AC-8E4A02CC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707FC-7080-4CF8-8D57-FF234DD0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D2C53-55F9-4151-B35F-3741133B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C59B3-7F97-45FC-991E-FBDC929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56717-6C60-4F8E-A768-0B20E9A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DA59A-1A72-49F3-82A3-0B3A876A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47EB-01A3-4EF4-A6F2-B50AA953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D325F-DDCA-4DF8-B524-8A68021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6F458-1ADE-4E56-93CC-9136FB75E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AAFA3-A8E5-491F-A6EE-1BCB5B0C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935F1-F525-4015-B9D7-08F432F8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D3BA7-6A2D-4F66-8374-04C9147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10CD3-4CDC-49B4-9CA2-9CE3F10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49F2F-FE05-496B-B218-D2E5AF9C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F8CAF-6530-4A62-BA3C-FE37700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08AFF-11E9-4A19-93DC-331068C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A7369-7B1E-4240-AA88-CC182BC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72DFC-7E35-4561-88EC-C140A11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403BF-6D7C-47E7-93F4-9855D26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4E607-137F-4F62-A11B-AAEE9A6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08EB4-BBCD-49C7-A20A-1D95E11F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E6624-5339-40C1-902D-4034002B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59313-1722-44E5-8A90-476495BB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B7C9E-59A2-4B50-BDAA-AF987C7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35B3C-9379-4614-8549-33565899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9D594-62BC-4827-99F7-06C796D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33728-3B20-4CD8-800A-C4848E38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6BF64-F0CB-4D96-B66B-B471659B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F1F9C-5066-4681-B477-9503BAA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FED97-5B4B-4CC0-A38D-EEAFC62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1F0A1-305C-43C3-B19B-2516AF3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2A68D-C1AA-4C1B-A759-CF4F002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8C536-4F39-470E-9671-759D266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6224D-E9C4-4D45-9FE1-EF69249B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808CF-CB68-42EC-ADFC-A3785083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86CEA-66AC-4A9A-9EC8-C73B6643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71E1E-462B-4EEB-BA62-05FB9AB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CD52B-CAE2-4924-BE87-F6613DE3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A69E4-8894-4B81-B0A9-CB223C1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CC82D-E47E-40C1-8EE2-9693D8A2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031FA-34F0-401D-8B79-8362F0E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674D5-DB19-4C16-8C87-B2FFD54B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35EAF-ABA1-4E6C-82BC-C99104E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AB86C-46FD-4938-830F-E12C521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0995E-629A-4B03-8ACC-23E4C66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36CDC-390E-4ECB-AC24-6828C3D7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CCDB5-60B3-4D54-813D-7C58C51E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40FFE-1445-4C1D-9634-3C768839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099B0-F900-4CF8-A528-A8C62549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87CC6-1286-48A5-9752-D8C647F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324A6C-8453-4C1E-BF90-7E3AC07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C819E-5081-43F0-9FB4-6DC2C358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C234B-7093-433E-9033-487EF7B3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A97C1-696C-4574-85E8-340B8E69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DC512-8887-409A-BC75-05D7F69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34A5F-2F7E-40F4-BC03-EBA7EB6B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F21F4-D6F3-4AFE-87EB-C8117E6D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6C64A-2C0B-462E-840D-4385658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D3418-5ECA-4E6B-A6F4-4CEC7F1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45A65-0641-4008-94A9-86D7C377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123C7-B098-4897-9A27-4094B495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F07B85-74E3-4DF7-943C-1E920518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9B5A3-F6D3-4B66-9B87-5C910D81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E8A793-E76A-467A-8C07-DB1ECEB9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2579A-FA21-4F2D-84D1-F0F5A79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6D52FE-94D0-46BA-890A-BADE0957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6B5CF-63DE-432E-B68A-D9E2F8F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EA519-A3B7-407B-9CBC-AE71464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C16F37-6C30-4F93-A12A-CE126A8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2C5EA-E801-445B-B34A-0C858CD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00D4E-E770-40EB-89F8-4D09359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A16C2B-3D88-4B9B-81C9-4F15E6E5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AE1D17-DC10-4986-B04F-C128B00A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96F0B-EE4F-42EC-903B-B9983750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E59AE9-8472-4787-A743-FC542C42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983EBA-4A8D-47A6-A30F-4F404D6D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8E821-A163-4B8D-B46F-8F868DFE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6FB4D-F58F-4013-907E-3C9A6760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A4020-9E99-41A9-97FA-DCFE2250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71BCC-2434-46FD-842A-182F0C32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78C476-2D9C-4547-9B09-7506B541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76BCD9-E9D1-4C06-A855-1A4A1E1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2A38A-298F-4C73-B4DF-39A068A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5ED54-7973-4146-9DFF-55AAAC8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C68C-6374-4CD2-907E-D2D53875F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FA26C-FAD7-4282-9D06-9BA30CE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2E272-BC4E-44E6-9D99-8D36EDAA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0EB17-99D2-4705-BBC0-8B5926BB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F7A2F2-19DC-4F64-87B2-78A65683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9010A1-6FBF-4FC9-9415-7E4CBF22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A7467-2B27-419F-BD9C-CC93D55E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49AE1-7861-47DD-9A2E-0EA3C8E5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5E1E3C-96B8-4FA3-A085-F724E34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9E299B-18EC-481E-A8BE-F765C58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D3D7FD-24B1-4954-A045-9743F98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5BEB-D8DF-44AE-8A17-FC071BDD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895AA9-E740-4591-87F2-F80B046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1D263-8F2F-4C77-A8E1-5BC63D5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153443-CB96-4FFE-AF87-B70E661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93E728-B005-4E93-844D-4303BD45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8BB33-EEC4-44C3-A36E-D5CB14D5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23604A-EE75-4CD3-ABB7-0B345C22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FA2EBE-2F92-40D5-8788-F8DDA7A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7914DD-1E6B-4EAC-BF98-90346C2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0300C7-A6C2-4CD8-BBB2-7105BAA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59DE8B-A1AA-4777-A7FD-EF72EF8C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5CC4-0A23-4ECC-998D-004FD326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8F4324-3A2F-4A1C-BB94-18234D17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86F95F-5C55-41AA-99D9-E66CC8B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C8268-8C3A-4CA7-9875-FF44946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18100F-BCCA-4017-B9A1-D3FDC8C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A28359-C8EE-4C60-85BB-15D5850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37C20D-69BC-49E1-9309-E367C64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020130-B1BE-4328-A199-351F08A3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0BBA15-6190-48A0-B5C2-0FCA5407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6C5B70-71DA-41FD-92BE-0F2EAF30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F654B4-55E8-485E-A004-8977543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2700-5055-42DA-B53E-C7242F3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14C8-A989-4BBF-8B80-83FBA9C5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0668AA-484D-44A5-94A6-C56FF7CE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AE8148-43A8-45AE-8721-F1B2EC8B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46DCF9-B78E-4F7F-8D4B-71E55B29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65CE8D-3747-4C82-BA73-57CF05B2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B9AC1D-8D77-4520-8C65-80F5029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1F3470-86C4-4E23-AA41-7FB0863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42A100-46BE-4718-BAE1-0E916BD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ECAA3D-AB6E-43EC-B304-92270DD9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0B2C4F-4359-469A-A082-42419D35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38A6A5-CC68-4083-BF24-4CD5F832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C0F-79D2-4C51-96BC-F4DF5F32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EE7A59-5091-4BF1-B0C2-A4D92CF3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0DC211-5F01-4273-ACDA-B9A1899A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7D780D-067B-4888-AE8B-30951EFD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688864-882C-4551-AB46-ADF9DAA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A9B834-0E2E-4D0A-BBCE-21303E7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A78D80-ACAF-4B3B-821A-3C94525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1BA45A-64FD-4558-8FA1-A3BCB34C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00E321-4A5A-4033-9D08-BC02622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199044-1509-4CAF-B043-48F9E23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F69A28-8F50-48F8-A426-52BAE0C2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E5C0-CD78-4BBB-A15B-89E30C61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7298F5-C31D-4567-8949-3BE2AC4A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4C1416-764F-4B47-8894-5DDCA1C8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637D33-7A2F-41B6-A744-6E4A94E3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CD2E91-B4CB-422D-B32F-36BFDC2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A6B4EE-6FEF-4E7E-90DD-E778FF4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47519C-43C9-41ED-A4F3-E3409378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FF4927-82EB-424A-A144-8FEEF330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82EA27-1EBD-472D-8138-035740F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8EAE52-857E-4A82-AAE0-E5579C8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1D690A-9251-441F-A4BC-97C45FE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88A2-4D07-41D1-9753-271F842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48DC39-CCAD-4844-A1E4-98DC325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99F048-5D7A-4B34-95C1-5467F069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77A29D-4265-40D7-A476-1C9D9E50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C4A0-EC43-4CBF-92E8-0D9462D9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F823-84E9-43A5-941F-528D0A0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5787-D3DE-494F-9F01-A5E5830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18DD-AD08-4FE4-96B8-07F515F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1F33-FE73-46C8-ACD9-A628DE7D1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A8B5-5324-4998-B7E0-AE439596F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B224-4D64-4CF8-B61A-BDA86236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816C7-42CE-4425-9987-628FED13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1DCEE-8C2A-480C-A86F-7E3A288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3C41F-CB6E-41C5-846B-BEEC1A7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71184-9948-4EF2-B233-7ACE06D4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AF5A3-D7A2-4080-9930-5F4D1069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B010E-CCA1-4CC5-B4F6-8DF51F1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0A2EB-43FD-42AD-8A70-3AA9467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A7BE9-D6E1-43AA-AEB6-E125A100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B3271-26A7-414A-90AB-1A6AF05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00244-0BBB-4330-87DE-18615A8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0D44-7507-45D8-8ACF-AF77EC48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C5168-C771-4D57-A700-8D7555C66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67365D-DC61-42D4-AAB2-D1C7CE781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DE25D-F361-40BE-85F7-AC764D5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A7E52-A88F-46ED-9F62-AE4ECF4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D609A-0F03-4086-81AB-D1E7ED6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4CB1BE-59F3-4E6B-A6D2-A68033B8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F1C7C-2E06-49D8-872A-BFA5992F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B3F88-19A9-40C3-BCFC-2852DB2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E45FA-C8E4-4EAF-8205-CB83B936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A35A2-C6C5-4E72-A5D1-F93723E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FABB-B5A5-440B-9A70-14D7E529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4BCD8-7F09-442C-813C-01FFA91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6BE7C9-1A21-46B2-810B-5511CBF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43638-B327-42A3-812A-90AB992EA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8B07-9D1F-40E5-BCED-CB106EFF1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E2A3-F8FE-49B5-9BDD-04C2B0B9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028BA-C3E5-4335-9CF6-7AFAB064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EE3C2-685B-4DC4-8612-1FED946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97A72-C530-4545-A92C-D21B05EC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67E2-C6D5-4B7B-97CB-D53726A6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8D382-1B2E-4383-8855-B3271349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2385-5FB7-4DF8-91D6-4DE4D29A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A5E5-6463-4B43-992D-E6006873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E838-1F2E-4F73-BDAE-CC4BC126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EA56-2654-45C2-AB54-BC19EA6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164F-5001-4D24-AA0D-0C081E3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A614-F67F-4E41-A7A5-4CEB79F47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E4AE3-50C1-4A4D-AFAE-30E7C4977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B42AB-9065-41F7-A55D-35318154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9D0F7-E5F5-47F3-B72E-B245780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15196-B794-44C5-A57C-664C0370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A1E23-1A91-4C0C-BBE5-D99C4A6C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8218-FBB8-441F-BA32-6E062F5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68EF5-F652-4E91-BA2F-B95F38D3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E5C4F-480F-455D-AFD6-37367DB8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A5A69-F60C-4F65-93DA-135A706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85D2C-5ED5-4955-AB2E-465FEB7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ACEC0-95B0-4950-8080-1FFA882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672DB-7387-4F98-8141-BF68312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1A544-7B69-48DB-ABF2-CE6A2DD0B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BC561-7C99-4B4F-B06F-70C9523D6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0FD370-A76C-4728-BACA-E468B0D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EF15B9-5250-4D10-BDD2-B9808CF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F0E2-9AE2-447B-8DE9-B83AA3ACD0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2745-C174-4B93-B0EE-3073FA773F5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3FE-BCB7-4EFD-883B-C0C55072E56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A39A-3358-4DA2-B67C-163B41EFDA2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0414-ECFC-4407-A6CE-CF9E02C4CC2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574D-C42D-4F33-A254-C0C1D867D4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1951-78A2-4EA1-8858-9F004B28F6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0424-651D-41AD-AEA8-7DDF57712E9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E532-B268-4FA6-8DEC-FFC03786685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3F5-02BF-47CF-8F11-98636FE0105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4C71-AB49-47B7-8D30-1E81599E35E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9276-74C1-4FC1-86BF-4782DDDD25F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5344-6056-4D70-890E-675E82E659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749-0045-42CA-B5DD-C086AC666F6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A180-8AD9-4A25-ABD7-C8067B41EA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B30-B93E-4C4D-9AB5-EDB43F7EDA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9B71-6C86-4021-B4CB-221096FBEA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F9E-6E35-4530-BCFD-353408AD04B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802-3289-48D2-A990-FB435882ACA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713-539C-48D6-83E9-2169CE80EE1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E0E-F835-48B0-B6E4-AD829706822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3C23-C79F-4B9E-9DFF-B47DF7B055E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001-E14A-43D1-8A65-DB7BC50C9D4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6A3-C9B2-47BF-AE97-5CC9266DD41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947D-ED4D-4205-8894-333CE13B39C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CF0-818B-4A8A-BA52-099F33140A8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68A5-C99F-4F4C-B67F-966088F0D1D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9829-7FCE-4A4C-AB92-7418FC3E953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1B5-C931-482C-86A7-2C1C432F9BF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7D44-3FEA-4F27-AD00-B97A4B0D6B3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8472-BE08-45EF-8D99-31759378CA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D1C7-F9E6-4020-80AD-326661D17FC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F4A-8891-4E52-856B-3394222C565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E30-0A98-4286-9016-E5D046A9F2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10C-FF68-4E40-81F8-77F1E54A82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B475-B60C-46E0-836B-2B87C51C1E6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684360" y="1916280"/>
            <a:ext cx="638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两个未知数的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倍问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AutoShape 16"/>
          <p:cNvSpPr/>
          <p:nvPr/>
        </p:nvSpPr>
        <p:spPr>
          <a:xfrm>
            <a:off x="1116000" y="2060640"/>
            <a:ext cx="2735280" cy="64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Text Box 28"/>
          <p:cNvSpPr/>
          <p:nvPr/>
        </p:nvSpPr>
        <p:spPr>
          <a:xfrm>
            <a:off x="1405080" y="28274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上衣和裤子各多少钱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8" name="Text Box 44"/>
          <p:cNvSpPr/>
          <p:nvPr/>
        </p:nvSpPr>
        <p:spPr>
          <a:xfrm>
            <a:off x="82872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9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10" name="Object 18" descr=""/>
          <p:cNvPicPr/>
          <p:nvPr/>
        </p:nvPicPr>
        <p:blipFill>
          <a:blip r:embed="rId1"/>
          <a:stretch/>
        </p:blipFill>
        <p:spPr>
          <a:xfrm>
            <a:off x="542880" y="3676680"/>
            <a:ext cx="114480" cy="212760"/>
          </a:xfrm>
          <a:prstGeom prst="rect">
            <a:avLst/>
          </a:prstGeom>
          <a:ln w="0">
            <a:noFill/>
          </a:ln>
        </p:spPr>
      </p:pic>
      <p:grpSp>
        <p:nvGrpSpPr>
          <p:cNvPr id="1811" name="组合 27655"/>
          <p:cNvGrpSpPr/>
          <p:nvPr/>
        </p:nvGrpSpPr>
        <p:grpSpPr>
          <a:xfrm>
            <a:off x="71280" y="3746520"/>
            <a:ext cx="5643720" cy="2471040"/>
            <a:chOff x="71280" y="3746520"/>
            <a:chExt cx="5643720" cy="2471040"/>
          </a:xfrm>
        </p:grpSpPr>
        <p:grpSp>
          <p:nvGrpSpPr>
            <p:cNvPr id="1812" name="组合 27656"/>
            <p:cNvGrpSpPr/>
            <p:nvPr/>
          </p:nvGrpSpPr>
          <p:grpSpPr>
            <a:xfrm>
              <a:off x="71280" y="3746520"/>
              <a:ext cx="5643720" cy="2471040"/>
              <a:chOff x="71280" y="3746520"/>
              <a:chExt cx="5643720" cy="2471040"/>
            </a:xfrm>
          </p:grpSpPr>
          <p:grpSp>
            <p:nvGrpSpPr>
              <p:cNvPr id="1813" name="组合 27657"/>
              <p:cNvGrpSpPr/>
              <p:nvPr/>
            </p:nvGrpSpPr>
            <p:grpSpPr>
              <a:xfrm>
                <a:off x="71280" y="3746520"/>
                <a:ext cx="5643720" cy="2471040"/>
                <a:chOff x="71280" y="3746520"/>
                <a:chExt cx="5643720" cy="2471040"/>
              </a:xfrm>
            </p:grpSpPr>
            <p:grpSp>
              <p:nvGrpSpPr>
                <p:cNvPr id="1814" name="Group 53"/>
                <p:cNvGrpSpPr/>
                <p:nvPr/>
              </p:nvGrpSpPr>
              <p:grpSpPr>
                <a:xfrm>
                  <a:off x="1463760" y="4421160"/>
                  <a:ext cx="3241080" cy="82080"/>
                  <a:chOff x="1463760" y="4421160"/>
                  <a:chExt cx="3241080" cy="82080"/>
                </a:xfrm>
              </p:grpSpPr>
              <p:sp>
                <p:nvSpPr>
                  <p:cNvPr id="1815" name="Line 46"/>
                  <p:cNvSpPr/>
                  <p:nvPr/>
                </p:nvSpPr>
                <p:spPr>
                  <a:xfrm>
                    <a:off x="1463760" y="4492440"/>
                    <a:ext cx="324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6" name="Line 47"/>
                  <p:cNvSpPr/>
                  <p:nvPr/>
                </p:nvSpPr>
                <p:spPr>
                  <a:xfrm>
                    <a:off x="1463760" y="443340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7" name="Line 50"/>
                  <p:cNvSpPr/>
                  <p:nvPr/>
                </p:nvSpPr>
                <p:spPr>
                  <a:xfrm>
                    <a:off x="2543760" y="442116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8" name="Line 51"/>
                  <p:cNvSpPr/>
                  <p:nvPr/>
                </p:nvSpPr>
                <p:spPr>
                  <a:xfrm>
                    <a:off x="3625200" y="442116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9" name="Line 52"/>
                  <p:cNvSpPr/>
                  <p:nvPr/>
                </p:nvSpPr>
                <p:spPr>
                  <a:xfrm>
                    <a:off x="4704840" y="442116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20" name="Line 55"/>
                <p:cNvSpPr/>
                <p:nvPr/>
              </p:nvSpPr>
              <p:spPr>
                <a:xfrm>
                  <a:off x="1463760" y="5557680"/>
                  <a:ext cx="2162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1" name="Text Box 60"/>
                <p:cNvSpPr/>
                <p:nvPr/>
              </p:nvSpPr>
              <p:spPr>
                <a:xfrm>
                  <a:off x="71280" y="4213080"/>
                  <a:ext cx="176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上衣价钱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2" name="Text Box 61"/>
                <p:cNvSpPr/>
                <p:nvPr/>
              </p:nvSpPr>
              <p:spPr>
                <a:xfrm>
                  <a:off x="71280" y="5284800"/>
                  <a:ext cx="2413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裤子价钱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3" name="AutoShape 62"/>
                <p:cNvSpPr/>
                <p:nvPr/>
              </p:nvSpPr>
              <p:spPr>
                <a:xfrm rot="16200000">
                  <a:off x="2977920" y="2649240"/>
                  <a:ext cx="212760" cy="324144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84240 h 3241440"/>
                    <a:gd name="textAreaBottom" fmla="*/ 3157200 h 324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4" name="Text Box 63"/>
                <p:cNvSpPr/>
                <p:nvPr/>
              </p:nvSpPr>
              <p:spPr>
                <a:xfrm>
                  <a:off x="2627280" y="3746520"/>
                  <a:ext cx="94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“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5" name="AutoShape 64"/>
                <p:cNvSpPr/>
                <p:nvPr/>
              </p:nvSpPr>
              <p:spPr>
                <a:xfrm rot="16200000">
                  <a:off x="2438280" y="4298400"/>
                  <a:ext cx="212760" cy="216216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56160 h 2162160"/>
                    <a:gd name="textAreaBottom" fmla="*/ 2106000 h 216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pic>
              <p:nvPicPr>
                <p:cNvPr id="1826" name="Object 6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51240" y="4700520"/>
                  <a:ext cx="237960" cy="59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7" name="AutoShape 72"/>
                <p:cNvSpPr/>
                <p:nvPr/>
              </p:nvSpPr>
              <p:spPr>
                <a:xfrm rot="5400000">
                  <a:off x="2977920" y="3049560"/>
                  <a:ext cx="212760" cy="324144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84240 h 3241440"/>
                    <a:gd name="textAreaBottom" fmla="*/ 3157200 h 324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8" name="Text Box 73"/>
                <p:cNvSpPr/>
                <p:nvPr/>
              </p:nvSpPr>
              <p:spPr>
                <a:xfrm>
                  <a:off x="2833560" y="4681440"/>
                  <a:ext cx="72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？元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9" name="AutoShape 74"/>
                <p:cNvSpPr/>
                <p:nvPr/>
              </p:nvSpPr>
              <p:spPr>
                <a:xfrm rot="5400000">
                  <a:off x="2438280" y="4652640"/>
                  <a:ext cx="212760" cy="216216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56160 h 2162160"/>
                    <a:gd name="textAreaBottom" fmla="*/ 2106000 h 216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0" name="Text Box 75"/>
                <p:cNvSpPr/>
                <p:nvPr/>
              </p:nvSpPr>
              <p:spPr>
                <a:xfrm>
                  <a:off x="2328840" y="5757840"/>
                  <a:ext cx="72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？元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1" name="AutoShape 79"/>
                <p:cNvSpPr/>
                <p:nvPr/>
              </p:nvSpPr>
              <p:spPr>
                <a:xfrm>
                  <a:off x="4776840" y="4395960"/>
                  <a:ext cx="142920" cy="1439640"/>
                </a:xfrm>
                <a:custGeom>
                  <a:avLst/>
                  <a:gdLst>
                    <a:gd name="textAreaLeft" fmla="*/ 0 w 142920"/>
                    <a:gd name="textAreaRight" fmla="*/ 51480 w 142920"/>
                    <a:gd name="textAreaTop" fmla="*/ 37440 h 1439640"/>
                    <a:gd name="textAreaBottom" fmla="*/ 1402200 h 143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2" name="Text Box 80"/>
                <p:cNvSpPr/>
                <p:nvPr/>
              </p:nvSpPr>
              <p:spPr>
                <a:xfrm>
                  <a:off x="4849920" y="487368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0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元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33" name="Line 69"/>
              <p:cNvSpPr/>
              <p:nvPr/>
            </p:nvSpPr>
            <p:spPr>
              <a:xfrm>
                <a:off x="3625920" y="5499000"/>
                <a:ext cx="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4" name="Line 71"/>
              <p:cNvSpPr/>
              <p:nvPr/>
            </p:nvSpPr>
            <p:spPr>
              <a:xfrm>
                <a:off x="2546280" y="5486400"/>
                <a:ext cx="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35" name="Line 70"/>
            <p:cNvSpPr/>
            <p:nvPr/>
          </p:nvSpPr>
          <p:spPr>
            <a:xfrm>
              <a:off x="1463760" y="54990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36" name="Text Box 48"/>
          <p:cNvSpPr/>
          <p:nvPr/>
        </p:nvSpPr>
        <p:spPr>
          <a:xfrm>
            <a:off x="5291280" y="3284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衣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裤子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7" name="Text Box 49"/>
          <p:cNvSpPr/>
          <p:nvPr/>
        </p:nvSpPr>
        <p:spPr>
          <a:xfrm>
            <a:off x="157320" y="34034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8" name="Rectangle 31"/>
          <p:cNvSpPr/>
          <p:nvPr/>
        </p:nvSpPr>
        <p:spPr>
          <a:xfrm>
            <a:off x="5003640" y="32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39" name="图片 27683" descr="40"/>
          <p:cNvPicPr/>
          <p:nvPr/>
        </p:nvPicPr>
        <p:blipFill>
          <a:blip r:embed="rId3"/>
          <a:stretch/>
        </p:blipFill>
        <p:spPr>
          <a:xfrm>
            <a:off x="6427800" y="15224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1840" name="图片 27684" descr="90"/>
          <p:cNvPicPr/>
          <p:nvPr/>
        </p:nvPicPr>
        <p:blipFill>
          <a:blip r:embed="rId4"/>
          <a:stretch/>
        </p:blipFill>
        <p:spPr>
          <a:xfrm>
            <a:off x="4775040" y="1606680"/>
            <a:ext cx="1525680" cy="1800000"/>
          </a:xfrm>
          <a:prstGeom prst="rect">
            <a:avLst/>
          </a:prstGeom>
          <a:ln w="0">
            <a:noFill/>
          </a:ln>
        </p:spPr>
      </p:pic>
      <p:sp>
        <p:nvSpPr>
          <p:cNvPr id="1841" name="AutoShape 27"/>
          <p:cNvSpPr/>
          <p:nvPr/>
        </p:nvSpPr>
        <p:spPr>
          <a:xfrm>
            <a:off x="1403280" y="1450800"/>
            <a:ext cx="3168720" cy="1224000"/>
          </a:xfrm>
          <a:prstGeom prst="wedgeRoundRectCallout">
            <a:avLst>
              <a:gd name="adj1" fmla="val 57666"/>
              <a:gd name="adj2" fmla="val 455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这套运动服共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元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裤子价钱是上衣的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42" name="组合 27686"/>
          <p:cNvGrpSpPr/>
          <p:nvPr/>
        </p:nvGrpSpPr>
        <p:grpSpPr>
          <a:xfrm>
            <a:off x="3693960" y="1895400"/>
            <a:ext cx="511200" cy="815040"/>
            <a:chOff x="3693960" y="1895400"/>
            <a:chExt cx="511200" cy="815040"/>
          </a:xfrm>
        </p:grpSpPr>
        <p:sp>
          <p:nvSpPr>
            <p:cNvPr id="1843" name="文本框 27687"/>
            <p:cNvSpPr/>
            <p:nvPr/>
          </p:nvSpPr>
          <p:spPr>
            <a:xfrm>
              <a:off x="3700440" y="2250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4" name="文本框 27688"/>
            <p:cNvSpPr/>
            <p:nvPr/>
          </p:nvSpPr>
          <p:spPr>
            <a:xfrm>
              <a:off x="3693960" y="189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5" name="直接连接符 27689"/>
            <p:cNvSpPr/>
            <p:nvPr/>
          </p:nvSpPr>
          <p:spPr>
            <a:xfrm>
              <a:off x="3709800" y="23144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46" name="组合 27690"/>
          <p:cNvGrpSpPr/>
          <p:nvPr/>
        </p:nvGrpSpPr>
        <p:grpSpPr>
          <a:xfrm>
            <a:off x="5249880" y="3645000"/>
            <a:ext cx="3714480" cy="3196080"/>
            <a:chOff x="5249880" y="3645000"/>
            <a:chExt cx="3714480" cy="3196080"/>
          </a:xfrm>
        </p:grpSpPr>
        <p:sp>
          <p:nvSpPr>
            <p:cNvPr id="1847" name="TextBox 22"/>
            <p:cNvSpPr/>
            <p:nvPr/>
          </p:nvSpPr>
          <p:spPr>
            <a:xfrm>
              <a:off x="5249880" y="3645000"/>
              <a:ext cx="3714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衣的价钱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，则裤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子的价钱为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 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元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48" name="组合 27692"/>
            <p:cNvGrpSpPr/>
            <p:nvPr/>
          </p:nvGrpSpPr>
          <p:grpSpPr>
            <a:xfrm>
              <a:off x="7108920" y="4013280"/>
              <a:ext cx="510480" cy="815040"/>
              <a:chOff x="7108920" y="4013280"/>
              <a:chExt cx="510480" cy="815040"/>
            </a:xfrm>
          </p:grpSpPr>
          <p:sp>
            <p:nvSpPr>
              <p:cNvPr id="1849" name="文本框 27693"/>
              <p:cNvSpPr/>
              <p:nvPr/>
            </p:nvSpPr>
            <p:spPr>
              <a:xfrm>
                <a:off x="7115040" y="43686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0" name="文本框 27694"/>
              <p:cNvSpPr/>
              <p:nvPr/>
            </p:nvSpPr>
            <p:spPr>
              <a:xfrm>
                <a:off x="7108920" y="4013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1" name="直接连接符 27695"/>
              <p:cNvSpPr/>
              <p:nvPr/>
            </p:nvSpPr>
            <p:spPr>
              <a:xfrm>
                <a:off x="7124400" y="44323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52" name="组合 27696"/>
            <p:cNvGrpSpPr/>
            <p:nvPr/>
          </p:nvGrpSpPr>
          <p:grpSpPr>
            <a:xfrm>
              <a:off x="6354720" y="4411800"/>
              <a:ext cx="511200" cy="815040"/>
              <a:chOff x="6354720" y="4411800"/>
              <a:chExt cx="511200" cy="815040"/>
            </a:xfrm>
          </p:grpSpPr>
          <p:sp>
            <p:nvSpPr>
              <p:cNvPr id="1853" name="文本框 27697"/>
              <p:cNvSpPr/>
              <p:nvPr/>
            </p:nvSpPr>
            <p:spPr>
              <a:xfrm>
                <a:off x="6361200" y="4767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4" name="文本框 27698"/>
              <p:cNvSpPr/>
              <p:nvPr/>
            </p:nvSpPr>
            <p:spPr>
              <a:xfrm>
                <a:off x="6354720" y="4411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5" name="直接连接符 27699"/>
              <p:cNvSpPr/>
              <p:nvPr/>
            </p:nvSpPr>
            <p:spPr>
              <a:xfrm>
                <a:off x="6370560" y="48308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56" name="组合 27700"/>
            <p:cNvGrpSpPr/>
            <p:nvPr/>
          </p:nvGrpSpPr>
          <p:grpSpPr>
            <a:xfrm>
              <a:off x="6315120" y="5140440"/>
              <a:ext cx="511200" cy="815040"/>
              <a:chOff x="6315120" y="5140440"/>
              <a:chExt cx="511200" cy="815040"/>
            </a:xfrm>
          </p:grpSpPr>
          <p:sp>
            <p:nvSpPr>
              <p:cNvPr id="1857" name="文本框 27701"/>
              <p:cNvSpPr/>
              <p:nvPr/>
            </p:nvSpPr>
            <p:spPr>
              <a:xfrm>
                <a:off x="6321600" y="5495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8" name="文本框 27702"/>
              <p:cNvSpPr/>
              <p:nvPr/>
            </p:nvSpPr>
            <p:spPr>
              <a:xfrm>
                <a:off x="6315120" y="514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9" name="直接连接符 27703"/>
              <p:cNvSpPr/>
              <p:nvPr/>
            </p:nvSpPr>
            <p:spPr>
              <a:xfrm>
                <a:off x="6330960" y="5559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60" name="组合 27704"/>
            <p:cNvGrpSpPr/>
            <p:nvPr/>
          </p:nvGrpSpPr>
          <p:grpSpPr>
            <a:xfrm>
              <a:off x="6977160" y="6026040"/>
              <a:ext cx="510480" cy="815040"/>
              <a:chOff x="6977160" y="6026040"/>
              <a:chExt cx="510480" cy="815040"/>
            </a:xfrm>
          </p:grpSpPr>
          <p:sp>
            <p:nvSpPr>
              <p:cNvPr id="1861" name="文本框 27705"/>
              <p:cNvSpPr/>
              <p:nvPr/>
            </p:nvSpPr>
            <p:spPr>
              <a:xfrm>
                <a:off x="6983280" y="6381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2" name="文本框 27706"/>
              <p:cNvSpPr/>
              <p:nvPr/>
            </p:nvSpPr>
            <p:spPr>
              <a:xfrm>
                <a:off x="6977160" y="60260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3" name="直接连接符 27707"/>
              <p:cNvSpPr/>
              <p:nvPr/>
            </p:nvSpPr>
            <p:spPr>
              <a:xfrm>
                <a:off x="6992640" y="6445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组合 28673"/>
          <p:cNvGrpSpPr/>
          <p:nvPr/>
        </p:nvGrpSpPr>
        <p:grpSpPr>
          <a:xfrm>
            <a:off x="66600" y="692280"/>
            <a:ext cx="5648400" cy="5363280"/>
            <a:chOff x="66600" y="692280"/>
            <a:chExt cx="5648400" cy="5363280"/>
          </a:xfrm>
        </p:grpSpPr>
        <p:grpSp>
          <p:nvGrpSpPr>
            <p:cNvPr id="1865" name="组合 28674"/>
            <p:cNvGrpSpPr/>
            <p:nvPr/>
          </p:nvGrpSpPr>
          <p:grpSpPr>
            <a:xfrm>
              <a:off x="66600" y="692280"/>
              <a:ext cx="5648400" cy="5363280"/>
              <a:chOff x="66600" y="692280"/>
              <a:chExt cx="5648400" cy="5363280"/>
            </a:xfrm>
          </p:grpSpPr>
          <p:grpSp>
            <p:nvGrpSpPr>
              <p:cNvPr id="1866" name="组合 28675"/>
              <p:cNvGrpSpPr/>
              <p:nvPr/>
            </p:nvGrpSpPr>
            <p:grpSpPr>
              <a:xfrm>
                <a:off x="1366920" y="692280"/>
                <a:ext cx="3254040" cy="4636800"/>
                <a:chOff x="1366920" y="692280"/>
                <a:chExt cx="3254040" cy="4636800"/>
              </a:xfrm>
            </p:grpSpPr>
            <p:grpSp>
              <p:nvGrpSpPr>
                <p:cNvPr id="1867" name="Group 56"/>
                <p:cNvGrpSpPr/>
                <p:nvPr/>
              </p:nvGrpSpPr>
              <p:grpSpPr>
                <a:xfrm>
                  <a:off x="1366920" y="692280"/>
                  <a:ext cx="3254040" cy="4636800"/>
                  <a:chOff x="1366920" y="692280"/>
                  <a:chExt cx="3254040" cy="4636800"/>
                </a:xfrm>
              </p:grpSpPr>
              <p:sp>
                <p:nvSpPr>
                  <p:cNvPr id="1868" name="Line 57"/>
                  <p:cNvSpPr/>
                  <p:nvPr/>
                </p:nvSpPr>
                <p:spPr>
                  <a:xfrm>
                    <a:off x="1366920" y="5329080"/>
                    <a:ext cx="324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69" name="Line 58"/>
                  <p:cNvSpPr/>
                  <p:nvPr/>
                </p:nvSpPr>
                <p:spPr>
                  <a:xfrm>
                    <a:off x="13795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0" name="Line 59"/>
                  <p:cNvSpPr/>
                  <p:nvPr/>
                </p:nvSpPr>
                <p:spPr>
                  <a:xfrm>
                    <a:off x="24595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1" name="Line 60"/>
                  <p:cNvSpPr/>
                  <p:nvPr/>
                </p:nvSpPr>
                <p:spPr>
                  <a:xfrm>
                    <a:off x="35413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2" name="Line 61"/>
                  <p:cNvSpPr/>
                  <p:nvPr/>
                </p:nvSpPr>
                <p:spPr>
                  <a:xfrm>
                    <a:off x="462096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73" name="Line 69"/>
                <p:cNvSpPr/>
                <p:nvPr/>
              </p:nvSpPr>
              <p:spPr>
                <a:xfrm>
                  <a:off x="3541680" y="403848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74" name="Line 71"/>
                <p:cNvSpPr/>
                <p:nvPr/>
              </p:nvSpPr>
              <p:spPr>
                <a:xfrm>
                  <a:off x="2462040" y="403848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75" name="Line 59"/>
                <p:cNvSpPr/>
                <p:nvPr/>
              </p:nvSpPr>
              <p:spPr>
                <a:xfrm>
                  <a:off x="3571920" y="525312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76" name="组合 28685"/>
              <p:cNvGrpSpPr/>
              <p:nvPr/>
            </p:nvGrpSpPr>
            <p:grpSpPr>
              <a:xfrm>
                <a:off x="66600" y="3382920"/>
                <a:ext cx="5648400" cy="2672640"/>
                <a:chOff x="66600" y="3382920"/>
                <a:chExt cx="5648400" cy="2672640"/>
              </a:xfrm>
            </p:grpSpPr>
            <p:grpSp>
              <p:nvGrpSpPr>
                <p:cNvPr id="1877" name="组合 28686"/>
                <p:cNvGrpSpPr/>
                <p:nvPr/>
              </p:nvGrpSpPr>
              <p:grpSpPr>
                <a:xfrm>
                  <a:off x="66600" y="3382920"/>
                  <a:ext cx="5648400" cy="2672640"/>
                  <a:chOff x="66600" y="3382920"/>
                  <a:chExt cx="5648400" cy="2672640"/>
                </a:xfrm>
              </p:grpSpPr>
              <p:grpSp>
                <p:nvGrpSpPr>
                  <p:cNvPr id="1878" name="组合 28687"/>
                  <p:cNvGrpSpPr/>
                  <p:nvPr/>
                </p:nvGrpSpPr>
                <p:grpSpPr>
                  <a:xfrm>
                    <a:off x="66600" y="3382920"/>
                    <a:ext cx="4554000" cy="2672640"/>
                    <a:chOff x="66600" y="3382920"/>
                    <a:chExt cx="4554000" cy="2672640"/>
                  </a:xfrm>
                </p:grpSpPr>
                <p:sp>
                  <p:nvSpPr>
                    <p:cNvPr id="1879" name="Text Box 63"/>
                    <p:cNvSpPr/>
                    <p:nvPr/>
                  </p:nvSpPr>
                  <p:spPr>
                    <a:xfrm>
                      <a:off x="66600" y="4998960"/>
                      <a:ext cx="1836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上衣价钱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0" name="Text Box 64"/>
                    <p:cNvSpPr/>
                    <p:nvPr/>
                  </p:nvSpPr>
                  <p:spPr>
                    <a:xfrm>
                      <a:off x="88920" y="3789360"/>
                      <a:ext cx="206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裤子价钱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1" name="Line 62"/>
                    <p:cNvSpPr/>
                    <p:nvPr/>
                  </p:nvSpPr>
                  <p:spPr>
                    <a:xfrm>
                      <a:off x="1379880" y="4121280"/>
                      <a:ext cx="21628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2" name="Text Box 66"/>
                    <p:cNvSpPr/>
                    <p:nvPr/>
                  </p:nvSpPr>
                  <p:spPr>
                    <a:xfrm>
                      <a:off x="2008800" y="3382920"/>
                      <a:ext cx="1269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3" name="AutoShape 67"/>
                    <p:cNvSpPr/>
                    <p:nvPr/>
                  </p:nvSpPr>
                  <p:spPr>
                    <a:xfrm rot="16200000">
                      <a:off x="2338200" y="2801880"/>
                      <a:ext cx="243000" cy="2162880"/>
                    </a:xfrm>
                    <a:custGeom>
                      <a:avLst/>
                      <a:gdLst>
                        <a:gd name="textAreaLeft" fmla="*/ 0 w 243000"/>
                        <a:gd name="textAreaRight" fmla="*/ 87840 w 243000"/>
                        <a:gd name="textAreaTop" fmla="*/ 56160 h 2162880"/>
                        <a:gd name="textAreaBottom" fmla="*/ 2106720 h 2162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4" name="AutoShape 72"/>
                    <p:cNvSpPr/>
                    <p:nvPr/>
                  </p:nvSpPr>
                  <p:spPr>
                    <a:xfrm rot="5400000">
                      <a:off x="2877840" y="3930840"/>
                      <a:ext cx="242640" cy="3242520"/>
                    </a:xfrm>
                    <a:custGeom>
                      <a:avLst/>
                      <a:gdLst>
                        <a:gd name="textAreaLeft" fmla="*/ 0 w 242640"/>
                        <a:gd name="textAreaRight" fmla="*/ 87480 w 242640"/>
                        <a:gd name="textAreaTop" fmla="*/ 84240 h 3242520"/>
                        <a:gd name="textAreaBottom" fmla="*/ 3158280 h 3242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5" name="Text Box 73"/>
                    <p:cNvSpPr/>
                    <p:nvPr/>
                  </p:nvSpPr>
                  <p:spPr>
                    <a:xfrm>
                      <a:off x="2750400" y="5595840"/>
                      <a:ext cx="720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？元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6" name="AutoShape 74"/>
                    <p:cNvSpPr/>
                    <p:nvPr/>
                  </p:nvSpPr>
                  <p:spPr>
                    <a:xfrm rot="5400000">
                      <a:off x="2338200" y="3202200"/>
                      <a:ext cx="243000" cy="2162880"/>
                    </a:xfrm>
                    <a:custGeom>
                      <a:avLst/>
                      <a:gdLst>
                        <a:gd name="textAreaLeft" fmla="*/ 0 w 243000"/>
                        <a:gd name="textAreaRight" fmla="*/ 87840 w 243000"/>
                        <a:gd name="textAreaTop" fmla="*/ 56160 h 2162880"/>
                        <a:gd name="textAreaBottom" fmla="*/ 2106720 h 2162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7" name="Text Box 75"/>
                    <p:cNvSpPr/>
                    <p:nvPr/>
                  </p:nvSpPr>
                  <p:spPr>
                    <a:xfrm>
                      <a:off x="2220120" y="4311720"/>
                      <a:ext cx="722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？元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8" name="AutoShape 67"/>
                    <p:cNvSpPr/>
                    <p:nvPr/>
                  </p:nvSpPr>
                  <p:spPr>
                    <a:xfrm rot="16200000">
                      <a:off x="2883240" y="3492360"/>
                      <a:ext cx="161640" cy="3215880"/>
                    </a:xfrm>
                    <a:custGeom>
                      <a:avLst/>
                      <a:gdLst>
                        <a:gd name="textAreaLeft" fmla="*/ 0 w 161640"/>
                        <a:gd name="textAreaRight" fmla="*/ 58320 w 161640"/>
                        <a:gd name="textAreaTop" fmla="*/ 37080 h 3215880"/>
                        <a:gd name="textAreaBottom" fmla="*/ 3178800 h 3215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402"/>
                            <a:pt x="10800" y="803"/>
                          </a:cubicBezTo>
                          <a:lnTo>
                            <a:pt x="10800" y="9997"/>
                          </a:lnTo>
                          <a:cubicBezTo>
                            <a:pt x="10800" y="10399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202"/>
                            <a:pt x="10800" y="11603"/>
                          </a:cubicBezTo>
                          <a:lnTo>
                            <a:pt x="10800" y="20797"/>
                          </a:lnTo>
                          <a:cubicBezTo>
                            <a:pt x="10800" y="21199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pic>
                  <p:nvPicPr>
                    <p:cNvPr id="1889" name="Object 10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922120" y="4449600"/>
                      <a:ext cx="222120" cy="5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890" name="组合 28699"/>
                  <p:cNvGrpSpPr/>
                  <p:nvPr/>
                </p:nvGrpSpPr>
                <p:grpSpPr>
                  <a:xfrm>
                    <a:off x="4597560" y="3803760"/>
                    <a:ext cx="1117440" cy="1544400"/>
                    <a:chOff x="4597560" y="3803760"/>
                    <a:chExt cx="1117440" cy="1544400"/>
                  </a:xfrm>
                </p:grpSpPr>
                <p:sp>
                  <p:nvSpPr>
                    <p:cNvPr id="1891" name="AutoShape 76"/>
                    <p:cNvSpPr/>
                    <p:nvPr/>
                  </p:nvSpPr>
                  <p:spPr>
                    <a:xfrm>
                      <a:off x="4697280" y="3803760"/>
                      <a:ext cx="141480" cy="1544400"/>
                    </a:xfrm>
                    <a:custGeom>
                      <a:avLst/>
                      <a:gdLst>
                        <a:gd name="textAreaLeft" fmla="*/ 0 w 141480"/>
                        <a:gd name="textAreaRight" fmla="*/ 51120 w 141480"/>
                        <a:gd name="textAreaTop" fmla="*/ 39960 h 1544400"/>
                        <a:gd name="textAreaBottom" fmla="*/ 1504440 h 15444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2" name="Text Box 77"/>
                    <p:cNvSpPr/>
                    <p:nvPr/>
                  </p:nvSpPr>
                  <p:spPr>
                    <a:xfrm>
                      <a:off x="4849920" y="4383000"/>
                      <a:ext cx="86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00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元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3" name="Line 59"/>
                    <p:cNvSpPr/>
                    <p:nvPr/>
                  </p:nvSpPr>
                  <p:spPr>
                    <a:xfrm>
                      <a:off x="4597560" y="5254560"/>
                      <a:ext cx="0" cy="745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94" name="Line 59"/>
                <p:cNvSpPr/>
                <p:nvPr/>
              </p:nvSpPr>
              <p:spPr>
                <a:xfrm>
                  <a:off x="2487600" y="523080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895" name="Line 59"/>
            <p:cNvSpPr/>
            <p:nvPr/>
          </p:nvSpPr>
          <p:spPr>
            <a:xfrm>
              <a:off x="1357200" y="5254560"/>
              <a:ext cx="0" cy="745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9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7" name="AutoShape 3"/>
          <p:cNvSpPr/>
          <p:nvPr/>
        </p:nvSpPr>
        <p:spPr>
          <a:xfrm>
            <a:off x="1116000" y="2060640"/>
            <a:ext cx="2735280" cy="64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8" name="Text Box 21"/>
          <p:cNvSpPr/>
          <p:nvPr/>
        </p:nvSpPr>
        <p:spPr>
          <a:xfrm>
            <a:off x="809640" y="59832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果把裤子的价钱看作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那么上衣的价钱是裤子的几分之几？应该怎样设未知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99" name="Object 4" descr=""/>
          <p:cNvPicPr/>
          <p:nvPr/>
        </p:nvPicPr>
        <p:blipFill>
          <a:blip r:embed="rId2"/>
          <a:stretch/>
        </p:blipFill>
        <p:spPr>
          <a:xfrm>
            <a:off x="4657680" y="3267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900" name="Object 55" descr=""/>
          <p:cNvPicPr/>
          <p:nvPr/>
        </p:nvPicPr>
        <p:blipFill>
          <a:blip r:embed="rId3"/>
          <a:stretch/>
        </p:blipFill>
        <p:spPr>
          <a:xfrm>
            <a:off x="336600" y="3232080"/>
            <a:ext cx="114120" cy="212760"/>
          </a:xfrm>
          <a:prstGeom prst="rect">
            <a:avLst/>
          </a:prstGeom>
          <a:ln w="0">
            <a:noFill/>
          </a:ln>
        </p:spPr>
      </p:pic>
      <p:sp>
        <p:nvSpPr>
          <p:cNvPr id="1901" name="TextBox 46"/>
          <p:cNvSpPr/>
          <p:nvPr/>
        </p:nvSpPr>
        <p:spPr>
          <a:xfrm>
            <a:off x="34920" y="597204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2" name="Text Box 52"/>
          <p:cNvSpPr/>
          <p:nvPr/>
        </p:nvSpPr>
        <p:spPr>
          <a:xfrm>
            <a:off x="5076720" y="30304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衣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裤子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3" name="Text Box 53"/>
          <p:cNvSpPr/>
          <p:nvPr/>
        </p:nvSpPr>
        <p:spPr>
          <a:xfrm>
            <a:off x="71280" y="29718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4" name="Rectangle 18"/>
          <p:cNvSpPr/>
          <p:nvPr/>
        </p:nvSpPr>
        <p:spPr>
          <a:xfrm>
            <a:off x="4786200" y="30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5" name="AutoShape 3"/>
          <p:cNvSpPr/>
          <p:nvPr/>
        </p:nvSpPr>
        <p:spPr>
          <a:xfrm>
            <a:off x="973080" y="2976480"/>
            <a:ext cx="2735280" cy="7416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06" name="Object 56" descr=""/>
          <p:cNvPicPr/>
          <p:nvPr/>
        </p:nvPicPr>
        <p:blipFill>
          <a:blip r:embed="rId4"/>
          <a:stretch/>
        </p:blipFill>
        <p:spPr>
          <a:xfrm>
            <a:off x="4514760" y="4427640"/>
            <a:ext cx="114480" cy="247680"/>
          </a:xfrm>
          <a:prstGeom prst="rect">
            <a:avLst/>
          </a:prstGeom>
          <a:ln w="0">
            <a:noFill/>
          </a:ln>
        </p:spPr>
      </p:pic>
      <p:sp>
        <p:nvSpPr>
          <p:cNvPr id="1907" name="Line 70"/>
          <p:cNvSpPr/>
          <p:nvPr/>
        </p:nvSpPr>
        <p:spPr>
          <a:xfrm>
            <a:off x="1379520" y="4038480"/>
            <a:ext cx="0" cy="82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8" name="Text Box 28"/>
          <p:cNvSpPr/>
          <p:nvPr/>
        </p:nvSpPr>
        <p:spPr>
          <a:xfrm>
            <a:off x="1405080" y="28274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上衣和裤子各多少钱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9" name="Text Box 44"/>
          <p:cNvSpPr/>
          <p:nvPr/>
        </p:nvSpPr>
        <p:spPr>
          <a:xfrm>
            <a:off x="82872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10" name="图片 28719" descr="40"/>
          <p:cNvPicPr/>
          <p:nvPr/>
        </p:nvPicPr>
        <p:blipFill>
          <a:blip r:embed="rId5"/>
          <a:stretch/>
        </p:blipFill>
        <p:spPr>
          <a:xfrm>
            <a:off x="6427800" y="12668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1911" name="图片 28720" descr="90"/>
          <p:cNvPicPr/>
          <p:nvPr/>
        </p:nvPicPr>
        <p:blipFill>
          <a:blip r:embed="rId6"/>
          <a:stretch/>
        </p:blipFill>
        <p:spPr>
          <a:xfrm>
            <a:off x="4775040" y="1351080"/>
            <a:ext cx="152568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912" name="组合 28721"/>
          <p:cNvGrpSpPr/>
          <p:nvPr/>
        </p:nvGrpSpPr>
        <p:grpSpPr>
          <a:xfrm>
            <a:off x="5202360" y="3390840"/>
            <a:ext cx="3714480" cy="2654280"/>
            <a:chOff x="5202360" y="3390840"/>
            <a:chExt cx="3714480" cy="2654280"/>
          </a:xfrm>
        </p:grpSpPr>
        <p:sp>
          <p:nvSpPr>
            <p:cNvPr id="1913" name="TextBox 22"/>
            <p:cNvSpPr/>
            <p:nvPr/>
          </p:nvSpPr>
          <p:spPr>
            <a:xfrm>
              <a:off x="5202360" y="3390840"/>
              <a:ext cx="3714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裤子的价钱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，则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衣的价钱为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元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14" name="组合 28723"/>
            <p:cNvGrpSpPr/>
            <p:nvPr/>
          </p:nvGrpSpPr>
          <p:grpSpPr>
            <a:xfrm>
              <a:off x="7068960" y="3603600"/>
              <a:ext cx="511200" cy="815040"/>
              <a:chOff x="7068960" y="3603600"/>
              <a:chExt cx="511200" cy="815040"/>
            </a:xfrm>
          </p:grpSpPr>
          <p:sp>
            <p:nvSpPr>
              <p:cNvPr id="1915" name="文本框 28724"/>
              <p:cNvSpPr/>
              <p:nvPr/>
            </p:nvSpPr>
            <p:spPr>
              <a:xfrm>
                <a:off x="7075440" y="395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6" name="文本框 28725"/>
              <p:cNvSpPr/>
              <p:nvPr/>
            </p:nvSpPr>
            <p:spPr>
              <a:xfrm>
                <a:off x="7068960" y="3603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7" name="直接连接符 28726"/>
              <p:cNvSpPr/>
              <p:nvPr/>
            </p:nvSpPr>
            <p:spPr>
              <a:xfrm>
                <a:off x="7084800" y="4022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18" name="组合 28727"/>
            <p:cNvGrpSpPr/>
            <p:nvPr/>
          </p:nvGrpSpPr>
          <p:grpSpPr>
            <a:xfrm>
              <a:off x="6719760" y="4025880"/>
              <a:ext cx="511200" cy="815040"/>
              <a:chOff x="6719760" y="4025880"/>
              <a:chExt cx="511200" cy="815040"/>
            </a:xfrm>
          </p:grpSpPr>
          <p:sp>
            <p:nvSpPr>
              <p:cNvPr id="1919" name="文本框 28728"/>
              <p:cNvSpPr/>
              <p:nvPr/>
            </p:nvSpPr>
            <p:spPr>
              <a:xfrm>
                <a:off x="6726240" y="4381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0" name="文本框 28729"/>
              <p:cNvSpPr/>
              <p:nvPr/>
            </p:nvSpPr>
            <p:spPr>
              <a:xfrm>
                <a:off x="6719760" y="4025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1" name="直接连接符 28730"/>
              <p:cNvSpPr/>
              <p:nvPr/>
            </p:nvSpPr>
            <p:spPr>
              <a:xfrm>
                <a:off x="6735600" y="4444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22" name="组合 28731"/>
            <p:cNvGrpSpPr/>
            <p:nvPr/>
          </p:nvGrpSpPr>
          <p:grpSpPr>
            <a:xfrm>
              <a:off x="6707160" y="4667400"/>
              <a:ext cx="511200" cy="815040"/>
              <a:chOff x="6707160" y="4667400"/>
              <a:chExt cx="511200" cy="815040"/>
            </a:xfrm>
          </p:grpSpPr>
          <p:sp>
            <p:nvSpPr>
              <p:cNvPr id="1923" name="文本框 28732"/>
              <p:cNvSpPr/>
              <p:nvPr/>
            </p:nvSpPr>
            <p:spPr>
              <a:xfrm>
                <a:off x="6713640" y="502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4" name="文本框 28733"/>
              <p:cNvSpPr/>
              <p:nvPr/>
            </p:nvSpPr>
            <p:spPr>
              <a:xfrm>
                <a:off x="6707160" y="4667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5" name="直接连接符 28734"/>
              <p:cNvSpPr/>
              <p:nvPr/>
            </p:nvSpPr>
            <p:spPr>
              <a:xfrm>
                <a:off x="6723000" y="5086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26" name="AutoShape 27"/>
          <p:cNvSpPr/>
          <p:nvPr/>
        </p:nvSpPr>
        <p:spPr>
          <a:xfrm>
            <a:off x="1403280" y="1450800"/>
            <a:ext cx="3168720" cy="1224000"/>
          </a:xfrm>
          <a:prstGeom prst="wedgeRoundRectCallout">
            <a:avLst>
              <a:gd name="adj1" fmla="val 57666"/>
              <a:gd name="adj2" fmla="val 455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这套运动服共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元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裤子价钱是上衣的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27" name="组合 28736"/>
          <p:cNvGrpSpPr/>
          <p:nvPr/>
        </p:nvGrpSpPr>
        <p:grpSpPr>
          <a:xfrm>
            <a:off x="3693960" y="1895400"/>
            <a:ext cx="511200" cy="815040"/>
            <a:chOff x="3693960" y="1895400"/>
            <a:chExt cx="511200" cy="815040"/>
          </a:xfrm>
        </p:grpSpPr>
        <p:sp>
          <p:nvSpPr>
            <p:cNvPr id="1928" name="文本框 28737"/>
            <p:cNvSpPr/>
            <p:nvPr/>
          </p:nvSpPr>
          <p:spPr>
            <a:xfrm>
              <a:off x="3700440" y="2250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9" name="文本框 28738"/>
            <p:cNvSpPr/>
            <p:nvPr/>
          </p:nvSpPr>
          <p:spPr>
            <a:xfrm>
              <a:off x="3693960" y="189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0" name="直接连接符 28739"/>
            <p:cNvSpPr/>
            <p:nvPr/>
          </p:nvSpPr>
          <p:spPr>
            <a:xfrm>
              <a:off x="3709800" y="23144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2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3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935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936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938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939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复习导入，揭示课题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642960" y="1484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图回答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50"/>
          <p:cNvSpPr/>
          <p:nvPr/>
        </p:nvSpPr>
        <p:spPr>
          <a:xfrm>
            <a:off x="285840" y="30528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51"/>
          <p:cNvSpPr/>
          <p:nvPr/>
        </p:nvSpPr>
        <p:spPr>
          <a:xfrm>
            <a:off x="971640" y="30686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图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8" name="Group 43"/>
          <p:cNvGrpSpPr/>
          <p:nvPr/>
        </p:nvGrpSpPr>
        <p:grpSpPr>
          <a:xfrm>
            <a:off x="1214280" y="2060640"/>
            <a:ext cx="5059440" cy="964440"/>
            <a:chOff x="1214280" y="2060640"/>
            <a:chExt cx="5059440" cy="964440"/>
          </a:xfrm>
        </p:grpSpPr>
        <p:sp>
          <p:nvSpPr>
            <p:cNvPr id="1489" name="TextBox 3"/>
            <p:cNvSpPr/>
            <p:nvPr/>
          </p:nvSpPr>
          <p:spPr>
            <a:xfrm>
              <a:off x="1214280" y="20606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女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TextBox 4"/>
            <p:cNvSpPr/>
            <p:nvPr/>
          </p:nvSpPr>
          <p:spPr>
            <a:xfrm>
              <a:off x="1214280" y="256536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男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1" name="组合 27"/>
            <p:cNvGrpSpPr/>
            <p:nvPr/>
          </p:nvGrpSpPr>
          <p:grpSpPr>
            <a:xfrm>
              <a:off x="2700360" y="2781360"/>
              <a:ext cx="3573360" cy="144360"/>
              <a:chOff x="2700360" y="2781360"/>
              <a:chExt cx="3573360" cy="144360"/>
            </a:xfrm>
          </p:grpSpPr>
          <p:sp>
            <p:nvSpPr>
              <p:cNvPr id="1492" name="直接连接符 6"/>
              <p:cNvSpPr/>
              <p:nvPr/>
            </p:nvSpPr>
            <p:spPr>
              <a:xfrm>
                <a:off x="2701080" y="2924280"/>
                <a:ext cx="357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3" name="直接连接符 8"/>
              <p:cNvSpPr/>
              <p:nvPr/>
            </p:nvSpPr>
            <p:spPr>
              <a:xfrm flipH="1">
                <a:off x="2700360" y="278208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4" name="直接连接符 9"/>
              <p:cNvSpPr/>
              <p:nvPr/>
            </p:nvSpPr>
            <p:spPr>
              <a:xfrm flipH="1">
                <a:off x="34138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直接连接符 10"/>
              <p:cNvSpPr/>
              <p:nvPr/>
            </p:nvSpPr>
            <p:spPr>
              <a:xfrm flipH="1">
                <a:off x="41284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直接连接符 11"/>
              <p:cNvSpPr/>
              <p:nvPr/>
            </p:nvSpPr>
            <p:spPr>
              <a:xfrm flipH="1">
                <a:off x="48430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7" name="直接连接符 12"/>
              <p:cNvSpPr/>
              <p:nvPr/>
            </p:nvSpPr>
            <p:spPr>
              <a:xfrm flipH="1">
                <a:off x="55576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8" name="直接连接符 13"/>
              <p:cNvSpPr/>
              <p:nvPr/>
            </p:nvSpPr>
            <p:spPr>
              <a:xfrm flipH="1">
                <a:off x="62722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499" name="组合 38"/>
            <p:cNvGrpSpPr/>
            <p:nvPr/>
          </p:nvGrpSpPr>
          <p:grpSpPr>
            <a:xfrm>
              <a:off x="2700360" y="2205000"/>
              <a:ext cx="2859120" cy="322200"/>
              <a:chOff x="2700360" y="2205000"/>
              <a:chExt cx="2859120" cy="322200"/>
            </a:xfrm>
          </p:grpSpPr>
          <p:sp>
            <p:nvSpPr>
              <p:cNvPr id="1500" name="直接连接符 15"/>
              <p:cNvSpPr/>
              <p:nvPr/>
            </p:nvSpPr>
            <p:spPr>
              <a:xfrm>
                <a:off x="2701080" y="2347560"/>
                <a:ext cx="285840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1" name="直接连接符 16"/>
              <p:cNvSpPr/>
              <p:nvPr/>
            </p:nvSpPr>
            <p:spPr>
              <a:xfrm flipH="1">
                <a:off x="270036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2" name="直接连接符 17"/>
              <p:cNvSpPr/>
              <p:nvPr/>
            </p:nvSpPr>
            <p:spPr>
              <a:xfrm flipH="1">
                <a:off x="3413880" y="220500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3" name="直接连接符 18"/>
              <p:cNvSpPr/>
              <p:nvPr/>
            </p:nvSpPr>
            <p:spPr>
              <a:xfrm flipH="1">
                <a:off x="412884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4" name="直接连接符 19"/>
              <p:cNvSpPr/>
              <p:nvPr/>
            </p:nvSpPr>
            <p:spPr>
              <a:xfrm flipH="1">
                <a:off x="484344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5" name="直接连接符 20"/>
              <p:cNvSpPr/>
              <p:nvPr/>
            </p:nvSpPr>
            <p:spPr>
              <a:xfrm flipH="1">
                <a:off x="555804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506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311920"/>
                <a:ext cx="114120" cy="2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7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8" name="组合 19481"/>
          <p:cNvGrpSpPr/>
          <p:nvPr/>
        </p:nvGrpSpPr>
        <p:grpSpPr>
          <a:xfrm>
            <a:off x="971640" y="3429000"/>
            <a:ext cx="8072280" cy="2416680"/>
            <a:chOff x="971640" y="3429000"/>
            <a:chExt cx="8072280" cy="2416680"/>
          </a:xfrm>
        </p:grpSpPr>
        <p:sp>
          <p:nvSpPr>
            <p:cNvPr id="1509" name="TextBox 51"/>
            <p:cNvSpPr/>
            <p:nvPr/>
          </p:nvSpPr>
          <p:spPr>
            <a:xfrm>
              <a:off x="971640" y="3429000"/>
              <a:ext cx="8072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根据线段图，你能说说男、女生人数间的数量关系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男生人数与女生人数比较；女生人数是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女生人数平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男生人数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；男生人数是女生人数的     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女生人数与男生人数比较；男生人数是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男生人数平均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女生人数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；女生人数是男生人数的      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0" name="组合 19483"/>
            <p:cNvGrpSpPr/>
            <p:nvPr/>
          </p:nvGrpSpPr>
          <p:grpSpPr>
            <a:xfrm>
              <a:off x="7267680" y="4210200"/>
              <a:ext cx="511200" cy="815040"/>
              <a:chOff x="7267680" y="4210200"/>
              <a:chExt cx="511200" cy="815040"/>
            </a:xfrm>
          </p:grpSpPr>
          <p:sp>
            <p:nvSpPr>
              <p:cNvPr id="1511" name="文本框 19484"/>
              <p:cNvSpPr/>
              <p:nvPr/>
            </p:nvSpPr>
            <p:spPr>
              <a:xfrm>
                <a:off x="7274160" y="45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2" name="文本框 19485"/>
              <p:cNvSpPr/>
              <p:nvPr/>
            </p:nvSpPr>
            <p:spPr>
              <a:xfrm>
                <a:off x="7267680" y="421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3" name="直接连接符 19486"/>
              <p:cNvSpPr/>
              <p:nvPr/>
            </p:nvSpPr>
            <p:spPr>
              <a:xfrm>
                <a:off x="7283520" y="4629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14" name="组合 19487"/>
            <p:cNvGrpSpPr/>
            <p:nvPr/>
          </p:nvGrpSpPr>
          <p:grpSpPr>
            <a:xfrm>
              <a:off x="7059600" y="5030640"/>
              <a:ext cx="511200" cy="815040"/>
              <a:chOff x="7059600" y="5030640"/>
              <a:chExt cx="511200" cy="815040"/>
            </a:xfrm>
          </p:grpSpPr>
          <p:sp>
            <p:nvSpPr>
              <p:cNvPr id="1515" name="文本框 19488"/>
              <p:cNvSpPr/>
              <p:nvPr/>
            </p:nvSpPr>
            <p:spPr>
              <a:xfrm>
                <a:off x="7066080" y="538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6" name="文本框 19489"/>
              <p:cNvSpPr/>
              <p:nvPr/>
            </p:nvSpPr>
            <p:spPr>
              <a:xfrm>
                <a:off x="7059600" y="503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7" name="直接连接符 19490"/>
              <p:cNvSpPr/>
              <p:nvPr/>
            </p:nvSpPr>
            <p:spPr>
              <a:xfrm>
                <a:off x="7075440" y="5449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18" name="组合 19491"/>
          <p:cNvGrpSpPr/>
          <p:nvPr/>
        </p:nvGrpSpPr>
        <p:grpSpPr>
          <a:xfrm>
            <a:off x="1000080" y="5364000"/>
            <a:ext cx="8540640" cy="1380240"/>
            <a:chOff x="1000080" y="5364000"/>
            <a:chExt cx="8540640" cy="1380240"/>
          </a:xfrm>
        </p:grpSpPr>
        <p:sp>
          <p:nvSpPr>
            <p:cNvPr id="1519" name="TextBox 51"/>
            <p:cNvSpPr/>
            <p:nvPr/>
          </p:nvSpPr>
          <p:spPr>
            <a:xfrm>
              <a:off x="1000080" y="5474880"/>
              <a:ext cx="85406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③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如果男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，女生有多少人？你是怎样得到的？（女生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。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)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如果女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，男生有多少人？你是怎样得到的？（男生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0" name="组合 19493"/>
            <p:cNvGrpSpPr/>
            <p:nvPr/>
          </p:nvGrpSpPr>
          <p:grpSpPr>
            <a:xfrm>
              <a:off x="7873920" y="5364000"/>
              <a:ext cx="511200" cy="815040"/>
              <a:chOff x="7873920" y="5364000"/>
              <a:chExt cx="511200" cy="815040"/>
            </a:xfrm>
          </p:grpSpPr>
          <p:sp>
            <p:nvSpPr>
              <p:cNvPr id="1521" name="文本框 19494"/>
              <p:cNvSpPr/>
              <p:nvPr/>
            </p:nvSpPr>
            <p:spPr>
              <a:xfrm>
                <a:off x="7880400" y="5719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2" name="文本框 19495"/>
              <p:cNvSpPr/>
              <p:nvPr/>
            </p:nvSpPr>
            <p:spPr>
              <a:xfrm>
                <a:off x="7873920" y="5364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3" name="直接连接符 19496"/>
              <p:cNvSpPr/>
              <p:nvPr/>
            </p:nvSpPr>
            <p:spPr>
              <a:xfrm>
                <a:off x="7889760" y="5783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24" name="组合 19497"/>
            <p:cNvGrpSpPr/>
            <p:nvPr/>
          </p:nvGrpSpPr>
          <p:grpSpPr>
            <a:xfrm>
              <a:off x="7878600" y="5929200"/>
              <a:ext cx="511200" cy="815040"/>
              <a:chOff x="7878600" y="5929200"/>
              <a:chExt cx="511200" cy="815040"/>
            </a:xfrm>
          </p:grpSpPr>
          <p:sp>
            <p:nvSpPr>
              <p:cNvPr id="1525" name="文本框 19498"/>
              <p:cNvSpPr/>
              <p:nvPr/>
            </p:nvSpPr>
            <p:spPr>
              <a:xfrm>
                <a:off x="7885080" y="6284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6" name="文本框 19499"/>
              <p:cNvSpPr/>
              <p:nvPr/>
            </p:nvSpPr>
            <p:spPr>
              <a:xfrm>
                <a:off x="7878600" y="5929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7" name="直接连接符 19500"/>
              <p:cNvSpPr/>
              <p:nvPr/>
            </p:nvSpPr>
            <p:spPr>
              <a:xfrm>
                <a:off x="7894440" y="6348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28" name="矩形 19501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矩形 19502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2" name="TextBox 34"/>
          <p:cNvSpPr/>
          <p:nvPr/>
        </p:nvSpPr>
        <p:spPr>
          <a:xfrm>
            <a:off x="228600" y="41004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3" name="TextBox 36"/>
          <p:cNvSpPr/>
          <p:nvPr/>
        </p:nvSpPr>
        <p:spPr>
          <a:xfrm>
            <a:off x="900000" y="411480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题目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34" name="Object 18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35" name="TextBox 36"/>
          <p:cNvSpPr/>
          <p:nvPr/>
        </p:nvSpPr>
        <p:spPr>
          <a:xfrm>
            <a:off x="898560" y="57182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道题怎样解答，请你根据题意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36" name="图片 20487" descr="39"/>
          <p:cNvPicPr/>
          <p:nvPr/>
        </p:nvPicPr>
        <p:blipFill>
          <a:blip r:embed="rId2"/>
          <a:stretch/>
        </p:blipFill>
        <p:spPr>
          <a:xfrm>
            <a:off x="1031760" y="1967040"/>
            <a:ext cx="4573800" cy="2158920"/>
          </a:xfrm>
          <a:prstGeom prst="rect">
            <a:avLst/>
          </a:prstGeom>
          <a:ln w="0">
            <a:noFill/>
          </a:ln>
        </p:spPr>
      </p:pic>
      <p:sp>
        <p:nvSpPr>
          <p:cNvPr id="1537" name="矩形 20488"/>
          <p:cNvSpPr/>
          <p:nvPr/>
        </p:nvSpPr>
        <p:spPr>
          <a:xfrm>
            <a:off x="5270400" y="3673440"/>
            <a:ext cx="40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上半场和下半场各得多少分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8" name="组合 20489"/>
          <p:cNvGrpSpPr/>
          <p:nvPr/>
        </p:nvGrpSpPr>
        <p:grpSpPr>
          <a:xfrm>
            <a:off x="900000" y="4510080"/>
            <a:ext cx="7848720" cy="1396080"/>
            <a:chOff x="900000" y="4510080"/>
            <a:chExt cx="7848720" cy="1396080"/>
          </a:xfrm>
        </p:grpSpPr>
        <p:sp>
          <p:nvSpPr>
            <p:cNvPr id="1539" name="TextBox 36"/>
            <p:cNvSpPr/>
            <p:nvPr/>
          </p:nvSpPr>
          <p:spPr>
            <a:xfrm>
              <a:off x="900000" y="451008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下半场得分只有上半场的一半”这句话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下半场得分和上半场得分在比较；上半场得分看作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下半场得分是上半场的     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0" name="组合 20491"/>
            <p:cNvGrpSpPr/>
            <p:nvPr/>
          </p:nvGrpSpPr>
          <p:grpSpPr>
            <a:xfrm>
              <a:off x="3835440" y="5091120"/>
              <a:ext cx="511200" cy="815040"/>
              <a:chOff x="3835440" y="5091120"/>
              <a:chExt cx="511200" cy="815040"/>
            </a:xfrm>
          </p:grpSpPr>
          <p:sp>
            <p:nvSpPr>
              <p:cNvPr id="1541" name="文本框 20492"/>
              <p:cNvSpPr/>
              <p:nvPr/>
            </p:nvSpPr>
            <p:spPr>
              <a:xfrm>
                <a:off x="3841920" y="5446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2" name="文本框 20493"/>
              <p:cNvSpPr/>
              <p:nvPr/>
            </p:nvSpPr>
            <p:spPr>
              <a:xfrm>
                <a:off x="3835440" y="5091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3" name="直接连接符 20494"/>
              <p:cNvSpPr/>
              <p:nvPr/>
            </p:nvSpPr>
            <p:spPr>
              <a:xfrm>
                <a:off x="3851280" y="5510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TextBox 135"/>
          <p:cNvSpPr/>
          <p:nvPr/>
        </p:nvSpPr>
        <p:spPr>
          <a:xfrm>
            <a:off x="250920" y="52704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TextBox 136"/>
          <p:cNvSpPr/>
          <p:nvPr/>
        </p:nvSpPr>
        <p:spPr>
          <a:xfrm>
            <a:off x="965160" y="52768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们能借助线段图找出一个等量关系式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TextBox 136"/>
          <p:cNvSpPr/>
          <p:nvPr/>
        </p:nvSpPr>
        <p:spPr>
          <a:xfrm>
            <a:off x="965160" y="5686560"/>
            <a:ext cx="78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场和下半场的得分我们都不知道，那怎样设未知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4262400" y="13874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TextBox 136"/>
          <p:cNvSpPr/>
          <p:nvPr/>
        </p:nvSpPr>
        <p:spPr>
          <a:xfrm>
            <a:off x="971640" y="6043680"/>
            <a:ext cx="78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依据等量关系列方程并解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1" name="组合 21512"/>
          <p:cNvGrpSpPr/>
          <p:nvPr/>
        </p:nvGrpSpPr>
        <p:grpSpPr>
          <a:xfrm>
            <a:off x="71280" y="2214720"/>
            <a:ext cx="5786640" cy="2585160"/>
            <a:chOff x="71280" y="2214720"/>
            <a:chExt cx="5786640" cy="2585160"/>
          </a:xfrm>
        </p:grpSpPr>
        <p:grpSp>
          <p:nvGrpSpPr>
            <p:cNvPr id="1552" name="组合 21513"/>
            <p:cNvGrpSpPr/>
            <p:nvPr/>
          </p:nvGrpSpPr>
          <p:grpSpPr>
            <a:xfrm>
              <a:off x="71280" y="2697120"/>
              <a:ext cx="5786640" cy="2102760"/>
              <a:chOff x="71280" y="2697120"/>
              <a:chExt cx="5786640" cy="2102760"/>
            </a:xfrm>
          </p:grpSpPr>
          <p:grpSp>
            <p:nvGrpSpPr>
              <p:cNvPr id="1553" name="组合 21514"/>
              <p:cNvGrpSpPr/>
              <p:nvPr/>
            </p:nvGrpSpPr>
            <p:grpSpPr>
              <a:xfrm>
                <a:off x="71280" y="2697120"/>
                <a:ext cx="4884480" cy="2102760"/>
                <a:chOff x="71280" y="2697120"/>
                <a:chExt cx="4884480" cy="2102760"/>
              </a:xfrm>
            </p:grpSpPr>
            <p:grpSp>
              <p:nvGrpSpPr>
                <p:cNvPr id="1554" name="组合 21515"/>
                <p:cNvGrpSpPr/>
                <p:nvPr/>
              </p:nvGrpSpPr>
              <p:grpSpPr>
                <a:xfrm>
                  <a:off x="71280" y="2697120"/>
                  <a:ext cx="4884480" cy="2102760"/>
                  <a:chOff x="71280" y="2697120"/>
                  <a:chExt cx="4884480" cy="2102760"/>
                </a:xfrm>
              </p:grpSpPr>
              <p:pic>
                <p:nvPicPr>
                  <p:cNvPr id="1555" name="右大括号 9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33320" y="3046320"/>
                    <a:ext cx="2950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6" name="直接连接符 61"/>
                  <p:cNvSpPr/>
                  <p:nvPr/>
                </p:nvSpPr>
                <p:spPr>
                  <a:xfrm>
                    <a:off x="1631520" y="3411360"/>
                    <a:ext cx="147780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7" name="直接连接符 61"/>
                  <p:cNvSpPr/>
                  <p:nvPr/>
                </p:nvSpPr>
                <p:spPr>
                  <a:xfrm>
                    <a:off x="3109680" y="3411360"/>
                    <a:ext cx="147744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8" name="TextBox 34"/>
                  <p:cNvSpPr/>
                  <p:nvPr/>
                </p:nvSpPr>
                <p:spPr>
                  <a:xfrm>
                    <a:off x="71280" y="3143160"/>
                    <a:ext cx="2092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上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9" name="TextBox 34"/>
                  <p:cNvSpPr/>
                  <p:nvPr/>
                </p:nvSpPr>
                <p:spPr>
                  <a:xfrm>
                    <a:off x="71280" y="3900600"/>
                    <a:ext cx="2234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下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60" name="组合 76"/>
                  <p:cNvGrpSpPr/>
                  <p:nvPr/>
                </p:nvGrpSpPr>
                <p:grpSpPr>
                  <a:xfrm>
                    <a:off x="1628640" y="4179960"/>
                    <a:ext cx="1478880" cy="58680"/>
                    <a:chOff x="1628640" y="4179960"/>
                    <a:chExt cx="1478880" cy="58680"/>
                  </a:xfrm>
                </p:grpSpPr>
                <p:sp>
                  <p:nvSpPr>
                    <p:cNvPr id="1561" name="直接连接符 61"/>
                    <p:cNvSpPr/>
                    <p:nvPr/>
                  </p:nvSpPr>
                  <p:spPr>
                    <a:xfrm>
                      <a:off x="1628640" y="4224600"/>
                      <a:ext cx="14781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2" name="直接连接符 62"/>
                    <p:cNvSpPr/>
                    <p:nvPr/>
                  </p:nvSpPr>
                  <p:spPr>
                    <a:xfrm flipH="1">
                      <a:off x="1628640" y="417996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3" name="直接连接符 69"/>
                    <p:cNvSpPr/>
                    <p:nvPr/>
                  </p:nvSpPr>
                  <p:spPr>
                    <a:xfrm flipH="1">
                      <a:off x="3106800" y="418068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4" name="TextBox 74"/>
                  <p:cNvSpPr/>
                  <p:nvPr/>
                </p:nvSpPr>
                <p:spPr>
                  <a:xfrm>
                    <a:off x="2687400" y="2697120"/>
                    <a:ext cx="91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“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565" name="右大括号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7320" y="3262320"/>
                    <a:ext cx="2984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6" name="TextBox 74"/>
                  <p:cNvSpPr/>
                  <p:nvPr/>
                </p:nvSpPr>
                <p:spPr>
                  <a:xfrm>
                    <a:off x="2782800" y="3554280"/>
                    <a:ext cx="91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67" name="TextBox 74"/>
                  <p:cNvSpPr/>
                  <p:nvPr/>
                </p:nvSpPr>
                <p:spPr>
                  <a:xfrm>
                    <a:off x="2053800" y="4340160"/>
                    <a:ext cx="91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68" name="组合 21529"/>
                  <p:cNvGrpSpPr/>
                  <p:nvPr/>
                </p:nvGrpSpPr>
                <p:grpSpPr>
                  <a:xfrm>
                    <a:off x="2227320" y="3484440"/>
                    <a:ext cx="502920" cy="788400"/>
                    <a:chOff x="2227320" y="3484440"/>
                    <a:chExt cx="502920" cy="788400"/>
                  </a:xfrm>
                </p:grpSpPr>
                <p:sp>
                  <p:nvSpPr>
                    <p:cNvPr id="1569" name="文本框 21530"/>
                    <p:cNvSpPr/>
                    <p:nvPr/>
                  </p:nvSpPr>
                  <p:spPr>
                    <a:xfrm>
                      <a:off x="2233440" y="3740040"/>
                      <a:ext cx="4968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2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0" name="文本框 21531"/>
                    <p:cNvSpPr/>
                    <p:nvPr/>
                  </p:nvSpPr>
                  <p:spPr>
                    <a:xfrm>
                      <a:off x="2227320" y="3484440"/>
                      <a:ext cx="3546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1" name="直接连接符 21532"/>
                    <p:cNvSpPr/>
                    <p:nvPr/>
                  </p:nvSpPr>
                  <p:spPr>
                    <a:xfrm>
                      <a:off x="2275560" y="3800520"/>
                      <a:ext cx="1764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572" name="右大括号 8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60680" y="3376440"/>
                  <a:ext cx="29905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3" name="右大括号 8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57440" y="4179960"/>
                  <a:ext cx="150336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4" name="右大括号 9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50960" y="3894120"/>
                  <a:ext cx="151776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75" name="组合 75"/>
              <p:cNvGrpSpPr/>
              <p:nvPr/>
            </p:nvGrpSpPr>
            <p:grpSpPr>
              <a:xfrm>
                <a:off x="1652760" y="3340080"/>
                <a:ext cx="3000240" cy="57240"/>
                <a:chOff x="1652760" y="3340080"/>
                <a:chExt cx="3000240" cy="57240"/>
              </a:xfrm>
            </p:grpSpPr>
            <p:sp>
              <p:nvSpPr>
                <p:cNvPr id="1576" name="直接连接符 31"/>
                <p:cNvSpPr/>
                <p:nvPr/>
              </p:nvSpPr>
              <p:spPr>
                <a:xfrm flipH="1">
                  <a:off x="1652760" y="3340080"/>
                  <a:ext cx="7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7" name="直接连接符 41"/>
                <p:cNvSpPr/>
                <p:nvPr/>
              </p:nvSpPr>
              <p:spPr>
                <a:xfrm flipH="1">
                  <a:off x="3152520" y="3340080"/>
                  <a:ext cx="7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8" name="直接连接符 48"/>
                <p:cNvSpPr/>
                <p:nvPr/>
              </p:nvSpPr>
              <p:spPr>
                <a:xfrm flipH="1">
                  <a:off x="4652280" y="3340080"/>
                  <a:ext cx="7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79" name="TextBox 74"/>
              <p:cNvSpPr/>
              <p:nvPr/>
            </p:nvSpPr>
            <p:spPr>
              <a:xfrm>
                <a:off x="4929120" y="3532320"/>
                <a:ext cx="9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2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分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80" name="TextBox 42"/>
            <p:cNvSpPr/>
            <p:nvPr/>
          </p:nvSpPr>
          <p:spPr>
            <a:xfrm>
              <a:off x="214200" y="221472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1" name="组合 21542"/>
          <p:cNvGrpSpPr/>
          <p:nvPr/>
        </p:nvGrpSpPr>
        <p:grpSpPr>
          <a:xfrm>
            <a:off x="5292720" y="1628640"/>
            <a:ext cx="4071960" cy="4082040"/>
            <a:chOff x="5292720" y="1628640"/>
            <a:chExt cx="4071960" cy="4082040"/>
          </a:xfrm>
        </p:grpSpPr>
        <p:sp>
          <p:nvSpPr>
            <p:cNvPr id="1582" name="TextBox 28"/>
            <p:cNvSpPr/>
            <p:nvPr/>
          </p:nvSpPr>
          <p:spPr>
            <a:xfrm>
              <a:off x="5292720" y="1628640"/>
              <a:ext cx="40719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半场得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，则下半场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得了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。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分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3" name="组合 21544"/>
            <p:cNvGrpSpPr/>
            <p:nvPr/>
          </p:nvGrpSpPr>
          <p:grpSpPr>
            <a:xfrm>
              <a:off x="6354720" y="2166840"/>
              <a:ext cx="511200" cy="815040"/>
              <a:chOff x="6354720" y="2166840"/>
              <a:chExt cx="511200" cy="815040"/>
            </a:xfrm>
          </p:grpSpPr>
          <p:sp>
            <p:nvSpPr>
              <p:cNvPr id="1584" name="文本框 21545"/>
              <p:cNvSpPr/>
              <p:nvPr/>
            </p:nvSpPr>
            <p:spPr>
              <a:xfrm>
                <a:off x="6361200" y="2522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5" name="文本框 21546"/>
              <p:cNvSpPr/>
              <p:nvPr/>
            </p:nvSpPr>
            <p:spPr>
              <a:xfrm>
                <a:off x="6354720" y="2166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6" name="直接连接符 21547"/>
              <p:cNvSpPr/>
              <p:nvPr/>
            </p:nvSpPr>
            <p:spPr>
              <a:xfrm>
                <a:off x="6370560" y="2585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87" name="组合 21548"/>
            <p:cNvGrpSpPr/>
            <p:nvPr/>
          </p:nvGrpSpPr>
          <p:grpSpPr>
            <a:xfrm>
              <a:off x="6189480" y="2709720"/>
              <a:ext cx="511200" cy="815040"/>
              <a:chOff x="6189480" y="2709720"/>
              <a:chExt cx="511200" cy="815040"/>
            </a:xfrm>
          </p:grpSpPr>
          <p:sp>
            <p:nvSpPr>
              <p:cNvPr id="1588" name="文本框 21549"/>
              <p:cNvSpPr/>
              <p:nvPr/>
            </p:nvSpPr>
            <p:spPr>
              <a:xfrm>
                <a:off x="6195960" y="306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9" name="文本框 21550"/>
              <p:cNvSpPr/>
              <p:nvPr/>
            </p:nvSpPr>
            <p:spPr>
              <a:xfrm>
                <a:off x="6189480" y="2709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0" name="直接连接符 21551"/>
              <p:cNvSpPr/>
              <p:nvPr/>
            </p:nvSpPr>
            <p:spPr>
              <a:xfrm>
                <a:off x="6205320" y="3128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1" name="组合 21552"/>
            <p:cNvGrpSpPr/>
            <p:nvPr/>
          </p:nvGrpSpPr>
          <p:grpSpPr>
            <a:xfrm>
              <a:off x="6200640" y="3295440"/>
              <a:ext cx="511200" cy="815040"/>
              <a:chOff x="6200640" y="3295440"/>
              <a:chExt cx="511200" cy="815040"/>
            </a:xfrm>
          </p:grpSpPr>
          <p:sp>
            <p:nvSpPr>
              <p:cNvPr id="1592" name="文本框 21553"/>
              <p:cNvSpPr/>
              <p:nvPr/>
            </p:nvSpPr>
            <p:spPr>
              <a:xfrm>
                <a:off x="6207120" y="3650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3" name="文本框 21554"/>
              <p:cNvSpPr/>
              <p:nvPr/>
            </p:nvSpPr>
            <p:spPr>
              <a:xfrm>
                <a:off x="6200640" y="3295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4" name="直接连接符 21555"/>
              <p:cNvSpPr/>
              <p:nvPr/>
            </p:nvSpPr>
            <p:spPr>
              <a:xfrm>
                <a:off x="6216480" y="3714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5" name="组合 21556"/>
            <p:cNvGrpSpPr/>
            <p:nvPr/>
          </p:nvGrpSpPr>
          <p:grpSpPr>
            <a:xfrm>
              <a:off x="7451640" y="3798720"/>
              <a:ext cx="511200" cy="815040"/>
              <a:chOff x="7451640" y="3798720"/>
              <a:chExt cx="511200" cy="815040"/>
            </a:xfrm>
          </p:grpSpPr>
          <p:sp>
            <p:nvSpPr>
              <p:cNvPr id="1596" name="文本框 21557"/>
              <p:cNvSpPr/>
              <p:nvPr/>
            </p:nvSpPr>
            <p:spPr>
              <a:xfrm>
                <a:off x="7458120" y="4154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7" name="文本框 21558"/>
              <p:cNvSpPr/>
              <p:nvPr/>
            </p:nvSpPr>
            <p:spPr>
              <a:xfrm>
                <a:off x="7451640" y="3798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8" name="直接连接符 21559"/>
              <p:cNvSpPr/>
              <p:nvPr/>
            </p:nvSpPr>
            <p:spPr>
              <a:xfrm>
                <a:off x="7467480" y="4217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9" name="组合 21560"/>
            <p:cNvGrpSpPr/>
            <p:nvPr/>
          </p:nvGrpSpPr>
          <p:grpSpPr>
            <a:xfrm>
              <a:off x="6869160" y="4895640"/>
              <a:ext cx="511200" cy="815040"/>
              <a:chOff x="6869160" y="4895640"/>
              <a:chExt cx="511200" cy="815040"/>
            </a:xfrm>
          </p:grpSpPr>
          <p:sp>
            <p:nvSpPr>
              <p:cNvPr id="1600" name="文本框 21561"/>
              <p:cNvSpPr/>
              <p:nvPr/>
            </p:nvSpPr>
            <p:spPr>
              <a:xfrm>
                <a:off x="6875640" y="5250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文本框 21562"/>
              <p:cNvSpPr/>
              <p:nvPr/>
            </p:nvSpPr>
            <p:spPr>
              <a:xfrm>
                <a:off x="6869160" y="4895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直接连接符 21563"/>
              <p:cNvSpPr/>
              <p:nvPr/>
            </p:nvSpPr>
            <p:spPr>
              <a:xfrm>
                <a:off x="6885000" y="5314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03" name="矩形 21564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4" name="矩形 21565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7" name="TextBox 28"/>
          <p:cNvSpPr/>
          <p:nvPr/>
        </p:nvSpPr>
        <p:spPr>
          <a:xfrm>
            <a:off x="5156280" y="2265480"/>
            <a:ext cx="40719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：设下半场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，则上半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 ÷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8" name="TextBox 135"/>
          <p:cNvSpPr/>
          <p:nvPr/>
        </p:nvSpPr>
        <p:spPr>
          <a:xfrm>
            <a:off x="114480" y="52513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9" name="TextBox 136"/>
          <p:cNvSpPr/>
          <p:nvPr/>
        </p:nvSpPr>
        <p:spPr>
          <a:xfrm>
            <a:off x="826920" y="5276880"/>
            <a:ext cx="78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设下半场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，那么我们把谁看作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0" name="TextBox 136"/>
          <p:cNvSpPr/>
          <p:nvPr/>
        </p:nvSpPr>
        <p:spPr>
          <a:xfrm>
            <a:off x="826920" y="568152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把下半场得分看作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那么上半场得分是下半场的几倍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1" name="TextBox 136"/>
          <p:cNvSpPr/>
          <p:nvPr/>
        </p:nvSpPr>
        <p:spPr>
          <a:xfrm>
            <a:off x="826920" y="61149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应该怎样设未知数？说说你列的方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2" name="Text Box 43"/>
          <p:cNvSpPr/>
          <p:nvPr/>
        </p:nvSpPr>
        <p:spPr>
          <a:xfrm>
            <a:off x="4427640" y="184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13" name="组合 22537"/>
          <p:cNvGrpSpPr/>
          <p:nvPr/>
        </p:nvGrpSpPr>
        <p:grpSpPr>
          <a:xfrm>
            <a:off x="71280" y="2214720"/>
            <a:ext cx="5786640" cy="2847240"/>
            <a:chOff x="71280" y="2214720"/>
            <a:chExt cx="5786640" cy="2847240"/>
          </a:xfrm>
        </p:grpSpPr>
        <p:grpSp>
          <p:nvGrpSpPr>
            <p:cNvPr id="1614" name="组合 22538"/>
            <p:cNvGrpSpPr/>
            <p:nvPr/>
          </p:nvGrpSpPr>
          <p:grpSpPr>
            <a:xfrm>
              <a:off x="71280" y="2214720"/>
              <a:ext cx="5786640" cy="2847240"/>
              <a:chOff x="71280" y="2214720"/>
              <a:chExt cx="5786640" cy="2847240"/>
            </a:xfrm>
          </p:grpSpPr>
          <p:grpSp>
            <p:nvGrpSpPr>
              <p:cNvPr id="1615" name="组合 22539"/>
              <p:cNvGrpSpPr/>
              <p:nvPr/>
            </p:nvGrpSpPr>
            <p:grpSpPr>
              <a:xfrm>
                <a:off x="71280" y="2214720"/>
                <a:ext cx="5786640" cy="2847240"/>
                <a:chOff x="71280" y="2214720"/>
                <a:chExt cx="5786640" cy="2847240"/>
              </a:xfrm>
            </p:grpSpPr>
            <p:sp>
              <p:nvSpPr>
                <p:cNvPr id="1616" name="TextBox 34"/>
                <p:cNvSpPr/>
                <p:nvPr/>
              </p:nvSpPr>
              <p:spPr>
                <a:xfrm>
                  <a:off x="214200" y="2214720"/>
                  <a:ext cx="128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7" name="Rectangle 39"/>
                <p:cNvSpPr/>
                <p:nvPr/>
              </p:nvSpPr>
              <p:spPr>
                <a:xfrm>
                  <a:off x="2138760" y="2849400"/>
                  <a:ext cx="49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“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18" name="组合 22542"/>
                <p:cNvGrpSpPr/>
                <p:nvPr/>
              </p:nvGrpSpPr>
              <p:grpSpPr>
                <a:xfrm>
                  <a:off x="71280" y="3184560"/>
                  <a:ext cx="5786640" cy="1877400"/>
                  <a:chOff x="71280" y="3184560"/>
                  <a:chExt cx="5786640" cy="1877400"/>
                </a:xfrm>
              </p:grpSpPr>
              <p:pic>
                <p:nvPicPr>
                  <p:cNvPr id="1619" name="右大括号 58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65360" y="4327560"/>
                    <a:ext cx="29811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0" name="右大括号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2120" y="3997440"/>
                    <a:ext cx="2989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621" name="组合 75"/>
                  <p:cNvGrpSpPr/>
                  <p:nvPr/>
                </p:nvGrpSpPr>
                <p:grpSpPr>
                  <a:xfrm>
                    <a:off x="1652760" y="4290840"/>
                    <a:ext cx="3001680" cy="57240"/>
                    <a:chOff x="1652760" y="4290840"/>
                    <a:chExt cx="3001680" cy="57240"/>
                  </a:xfrm>
                </p:grpSpPr>
                <p:sp>
                  <p:nvSpPr>
                    <p:cNvPr id="1622" name="直接连接符 31"/>
                    <p:cNvSpPr/>
                    <p:nvPr/>
                  </p:nvSpPr>
                  <p:spPr>
                    <a:xfrm flipH="1">
                      <a:off x="1652760" y="4290840"/>
                      <a:ext cx="720" cy="57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3" name="直接连接符 41"/>
                    <p:cNvSpPr/>
                    <p:nvPr/>
                  </p:nvSpPr>
                  <p:spPr>
                    <a:xfrm flipH="1">
                      <a:off x="3153240" y="4290840"/>
                      <a:ext cx="720" cy="57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4" name="直接连接符 48"/>
                    <p:cNvSpPr/>
                    <p:nvPr/>
                  </p:nvSpPr>
                  <p:spPr>
                    <a:xfrm flipH="1">
                      <a:off x="4653720" y="4290840"/>
                      <a:ext cx="720" cy="57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5" name="TextBox 34"/>
                  <p:cNvSpPr/>
                  <p:nvPr/>
                </p:nvSpPr>
                <p:spPr>
                  <a:xfrm>
                    <a:off x="71280" y="4111560"/>
                    <a:ext cx="234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上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6" name="TextBox 34"/>
                  <p:cNvSpPr/>
                  <p:nvPr/>
                </p:nvSpPr>
                <p:spPr>
                  <a:xfrm>
                    <a:off x="71280" y="3184560"/>
                    <a:ext cx="234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下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627" name="组合 76"/>
                  <p:cNvGrpSpPr/>
                  <p:nvPr/>
                </p:nvGrpSpPr>
                <p:grpSpPr>
                  <a:xfrm>
                    <a:off x="1652760" y="3433680"/>
                    <a:ext cx="1501560" cy="58680"/>
                    <a:chOff x="1652760" y="3433680"/>
                    <a:chExt cx="1501560" cy="58680"/>
                  </a:xfrm>
                </p:grpSpPr>
                <p:sp>
                  <p:nvSpPr>
                    <p:cNvPr id="1628" name="直接连接符 61"/>
                    <p:cNvSpPr/>
                    <p:nvPr/>
                  </p:nvSpPr>
                  <p:spPr>
                    <a:xfrm>
                      <a:off x="1652760" y="3478320"/>
                      <a:ext cx="15008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9" name="直接连接符 62"/>
                    <p:cNvSpPr/>
                    <p:nvPr/>
                  </p:nvSpPr>
                  <p:spPr>
                    <a:xfrm flipH="1">
                      <a:off x="1652760" y="343368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30" name="直接连接符 69"/>
                    <p:cNvSpPr/>
                    <p:nvPr/>
                  </p:nvSpPr>
                  <p:spPr>
                    <a:xfrm flipH="1">
                      <a:off x="3153600" y="343440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631" name="右大括号 7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7520" y="3338640"/>
                    <a:ext cx="303120" cy="98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2" name="TextBox 74"/>
                  <p:cNvSpPr/>
                  <p:nvPr/>
                </p:nvSpPr>
                <p:spPr>
                  <a:xfrm>
                    <a:off x="4929120" y="3630600"/>
                    <a:ext cx="928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2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3" name="TextBox 74"/>
                  <p:cNvSpPr/>
                  <p:nvPr/>
                </p:nvSpPr>
                <p:spPr>
                  <a:xfrm>
                    <a:off x="2714760" y="4602240"/>
                    <a:ext cx="928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4" name="TextBox 74"/>
                  <p:cNvSpPr/>
                  <p:nvPr/>
                </p:nvSpPr>
                <p:spPr>
                  <a:xfrm>
                    <a:off x="2084400" y="3594240"/>
                    <a:ext cx="928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5" name="Text Box 45"/>
                  <p:cNvSpPr/>
                  <p:nvPr/>
                </p:nvSpPr>
                <p:spPr>
                  <a:xfrm>
                    <a:off x="2906640" y="3660840"/>
                    <a:ext cx="863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倍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pic>
            <p:nvPicPr>
              <p:cNvPr id="1636" name="右大括号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1646280" y="3129120"/>
                <a:ext cx="15238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7" name="右大括号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1654200" y="3408480"/>
                <a:ext cx="150984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8" name="直接连接符 61"/>
              <p:cNvSpPr/>
              <p:nvPr/>
            </p:nvSpPr>
            <p:spPr>
              <a:xfrm>
                <a:off x="1655640" y="4362480"/>
                <a:ext cx="15004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9" name="直接连接符 61"/>
            <p:cNvSpPr/>
            <p:nvPr/>
          </p:nvSpPr>
          <p:spPr>
            <a:xfrm>
              <a:off x="3156120" y="4362480"/>
              <a:ext cx="150012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40" name="矩形 22564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1" name="矩形 22565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TextBox 135"/>
          <p:cNvSpPr/>
          <p:nvPr/>
        </p:nvSpPr>
        <p:spPr>
          <a:xfrm>
            <a:off x="214200" y="60627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4" name="TextBox 136"/>
          <p:cNvSpPr/>
          <p:nvPr/>
        </p:nvSpPr>
        <p:spPr>
          <a:xfrm>
            <a:off x="906480" y="608328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们依据题意画出了相同的线段图，找到了相同的等量关系，为什么同学们列出的方程不一样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5" name="Text Box 43"/>
          <p:cNvSpPr/>
          <p:nvPr/>
        </p:nvSpPr>
        <p:spPr>
          <a:xfrm>
            <a:off x="4718160" y="1947960"/>
            <a:ext cx="48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（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Text Box 43"/>
          <p:cNvSpPr/>
          <p:nvPr/>
        </p:nvSpPr>
        <p:spPr>
          <a:xfrm>
            <a:off x="504720" y="192708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7" name="组合 23558"/>
          <p:cNvGrpSpPr/>
          <p:nvPr/>
        </p:nvGrpSpPr>
        <p:grpSpPr>
          <a:xfrm>
            <a:off x="755640" y="2182680"/>
            <a:ext cx="4071960" cy="4082040"/>
            <a:chOff x="755640" y="2182680"/>
            <a:chExt cx="4071960" cy="4082040"/>
          </a:xfrm>
        </p:grpSpPr>
        <p:sp>
          <p:nvSpPr>
            <p:cNvPr id="1648" name="TextBox 28"/>
            <p:cNvSpPr/>
            <p:nvPr/>
          </p:nvSpPr>
          <p:spPr>
            <a:xfrm>
              <a:off x="755640" y="2182680"/>
              <a:ext cx="40719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半场得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，则下半场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得了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。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分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49" name="组合 23560"/>
            <p:cNvGrpSpPr/>
            <p:nvPr/>
          </p:nvGrpSpPr>
          <p:grpSpPr>
            <a:xfrm>
              <a:off x="1817640" y="2720880"/>
              <a:ext cx="511200" cy="815040"/>
              <a:chOff x="1817640" y="2720880"/>
              <a:chExt cx="511200" cy="815040"/>
            </a:xfrm>
          </p:grpSpPr>
          <p:sp>
            <p:nvSpPr>
              <p:cNvPr id="1650" name="文本框 23561"/>
              <p:cNvSpPr/>
              <p:nvPr/>
            </p:nvSpPr>
            <p:spPr>
              <a:xfrm>
                <a:off x="1824120" y="3076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1" name="文本框 23562"/>
              <p:cNvSpPr/>
              <p:nvPr/>
            </p:nvSpPr>
            <p:spPr>
              <a:xfrm>
                <a:off x="1817640" y="2720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2" name="直接连接符 23563"/>
              <p:cNvSpPr/>
              <p:nvPr/>
            </p:nvSpPr>
            <p:spPr>
              <a:xfrm>
                <a:off x="1833480" y="3139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53" name="组合 23564"/>
            <p:cNvGrpSpPr/>
            <p:nvPr/>
          </p:nvGrpSpPr>
          <p:grpSpPr>
            <a:xfrm>
              <a:off x="1652400" y="3263760"/>
              <a:ext cx="511200" cy="815040"/>
              <a:chOff x="1652400" y="3263760"/>
              <a:chExt cx="511200" cy="815040"/>
            </a:xfrm>
          </p:grpSpPr>
          <p:sp>
            <p:nvSpPr>
              <p:cNvPr id="1654" name="文本框 23565"/>
              <p:cNvSpPr/>
              <p:nvPr/>
            </p:nvSpPr>
            <p:spPr>
              <a:xfrm>
                <a:off x="1658880" y="3619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3566"/>
              <p:cNvSpPr/>
              <p:nvPr/>
            </p:nvSpPr>
            <p:spPr>
              <a:xfrm>
                <a:off x="1652400" y="3263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直接连接符 23567"/>
              <p:cNvSpPr/>
              <p:nvPr/>
            </p:nvSpPr>
            <p:spPr>
              <a:xfrm>
                <a:off x="1668240" y="3682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57" name="组合 23568"/>
            <p:cNvGrpSpPr/>
            <p:nvPr/>
          </p:nvGrpSpPr>
          <p:grpSpPr>
            <a:xfrm>
              <a:off x="1663560" y="3849480"/>
              <a:ext cx="511200" cy="815040"/>
              <a:chOff x="1663560" y="3849480"/>
              <a:chExt cx="511200" cy="815040"/>
            </a:xfrm>
          </p:grpSpPr>
          <p:sp>
            <p:nvSpPr>
              <p:cNvPr id="1658" name="文本框 23569"/>
              <p:cNvSpPr/>
              <p:nvPr/>
            </p:nvSpPr>
            <p:spPr>
              <a:xfrm>
                <a:off x="1670040" y="4204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9" name="文本框 23570"/>
              <p:cNvSpPr/>
              <p:nvPr/>
            </p:nvSpPr>
            <p:spPr>
              <a:xfrm>
                <a:off x="1663560" y="3849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0" name="直接连接符 23571"/>
              <p:cNvSpPr/>
              <p:nvPr/>
            </p:nvSpPr>
            <p:spPr>
              <a:xfrm>
                <a:off x="1679400" y="4268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1" name="组合 23572"/>
            <p:cNvGrpSpPr/>
            <p:nvPr/>
          </p:nvGrpSpPr>
          <p:grpSpPr>
            <a:xfrm>
              <a:off x="2914560" y="4352760"/>
              <a:ext cx="511200" cy="815040"/>
              <a:chOff x="2914560" y="4352760"/>
              <a:chExt cx="511200" cy="815040"/>
            </a:xfrm>
          </p:grpSpPr>
          <p:sp>
            <p:nvSpPr>
              <p:cNvPr id="1662" name="文本框 23573"/>
              <p:cNvSpPr/>
              <p:nvPr/>
            </p:nvSpPr>
            <p:spPr>
              <a:xfrm>
                <a:off x="2921040" y="4708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3" name="文本框 23574"/>
              <p:cNvSpPr/>
              <p:nvPr/>
            </p:nvSpPr>
            <p:spPr>
              <a:xfrm>
                <a:off x="2914560" y="4352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4" name="直接连接符 23575"/>
              <p:cNvSpPr/>
              <p:nvPr/>
            </p:nvSpPr>
            <p:spPr>
              <a:xfrm>
                <a:off x="2930400" y="4771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5" name="组合 23576"/>
            <p:cNvGrpSpPr/>
            <p:nvPr/>
          </p:nvGrpSpPr>
          <p:grpSpPr>
            <a:xfrm>
              <a:off x="2332080" y="5449680"/>
              <a:ext cx="511200" cy="815040"/>
              <a:chOff x="2332080" y="5449680"/>
              <a:chExt cx="511200" cy="815040"/>
            </a:xfrm>
          </p:grpSpPr>
          <p:sp>
            <p:nvSpPr>
              <p:cNvPr id="1666" name="文本框 23577"/>
              <p:cNvSpPr/>
              <p:nvPr/>
            </p:nvSpPr>
            <p:spPr>
              <a:xfrm>
                <a:off x="2338560" y="580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7" name="文本框 23578"/>
              <p:cNvSpPr/>
              <p:nvPr/>
            </p:nvSpPr>
            <p:spPr>
              <a:xfrm>
                <a:off x="2332080" y="5449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8" name="直接连接符 23579"/>
              <p:cNvSpPr/>
              <p:nvPr/>
            </p:nvSpPr>
            <p:spPr>
              <a:xfrm>
                <a:off x="2347920" y="5868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69" name="TextBox 28"/>
          <p:cNvSpPr/>
          <p:nvPr/>
        </p:nvSpPr>
        <p:spPr>
          <a:xfrm>
            <a:off x="4981680" y="2355840"/>
            <a:ext cx="40719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解：设下半场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分，则上半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分。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 ÷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0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1" name="矩形 23582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2" name="矩形 23583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4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回顾与反思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5" name="TextBox 8"/>
          <p:cNvSpPr/>
          <p:nvPr/>
        </p:nvSpPr>
        <p:spPr>
          <a:xfrm>
            <a:off x="214200" y="23162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6" name="TextBox 10"/>
          <p:cNvSpPr/>
          <p:nvPr/>
        </p:nvSpPr>
        <p:spPr>
          <a:xfrm>
            <a:off x="1000080" y="2313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刚才同学们列出了两个不同的方程，分别求出了上、下半场的得分，那么对不对呢？可以怎样检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77" name="组合 24581"/>
          <p:cNvGrpSpPr/>
          <p:nvPr/>
        </p:nvGrpSpPr>
        <p:grpSpPr>
          <a:xfrm>
            <a:off x="104760" y="3357720"/>
            <a:ext cx="4476240" cy="1359720"/>
            <a:chOff x="104760" y="3357720"/>
            <a:chExt cx="4476240" cy="1359720"/>
          </a:xfrm>
        </p:grpSpPr>
        <p:sp>
          <p:nvSpPr>
            <p:cNvPr id="1678" name="TextBox 12"/>
            <p:cNvSpPr/>
            <p:nvPr/>
          </p:nvSpPr>
          <p:spPr>
            <a:xfrm>
              <a:off x="104760" y="3357720"/>
              <a:ext cx="16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79" name="TextBox 14"/>
            <p:cNvSpPr/>
            <p:nvPr/>
          </p:nvSpPr>
          <p:spPr>
            <a:xfrm>
              <a:off x="223560" y="3773520"/>
              <a:ext cx="43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上、下半场的得分和是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分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0" name="TextBox 25"/>
            <p:cNvSpPr/>
            <p:nvPr/>
          </p:nvSpPr>
          <p:spPr>
            <a:xfrm>
              <a:off x="652320" y="4257720"/>
              <a:ext cx="37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分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681" name="Object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1682" name="组合 24586"/>
          <p:cNvGrpSpPr/>
          <p:nvPr/>
        </p:nvGrpSpPr>
        <p:grpSpPr>
          <a:xfrm>
            <a:off x="4500720" y="3317760"/>
            <a:ext cx="4493160" cy="1651680"/>
            <a:chOff x="4500720" y="3317760"/>
            <a:chExt cx="4493160" cy="1651680"/>
          </a:xfrm>
        </p:grpSpPr>
        <p:sp>
          <p:nvSpPr>
            <p:cNvPr id="1683" name="TextBox 16"/>
            <p:cNvSpPr/>
            <p:nvPr/>
          </p:nvSpPr>
          <p:spPr>
            <a:xfrm>
              <a:off x="4500720" y="331776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4" name="TextBox 20"/>
            <p:cNvSpPr/>
            <p:nvPr/>
          </p:nvSpPr>
          <p:spPr>
            <a:xfrm>
              <a:off x="4786200" y="3746160"/>
              <a:ext cx="39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下半场得分是不是上半场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5" name="TextBox 21"/>
            <p:cNvSpPr/>
            <p:nvPr/>
          </p:nvSpPr>
          <p:spPr>
            <a:xfrm>
              <a:off x="5072040" y="4317840"/>
              <a:ext cx="37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÷28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4590"/>
            <p:cNvGrpSpPr/>
            <p:nvPr/>
          </p:nvGrpSpPr>
          <p:grpSpPr>
            <a:xfrm>
              <a:off x="8483400" y="3600360"/>
              <a:ext cx="510480" cy="815040"/>
              <a:chOff x="8483400" y="3600360"/>
              <a:chExt cx="510480" cy="815040"/>
            </a:xfrm>
          </p:grpSpPr>
          <p:sp>
            <p:nvSpPr>
              <p:cNvPr id="1687" name="文本框 24591"/>
              <p:cNvSpPr/>
              <p:nvPr/>
            </p:nvSpPr>
            <p:spPr>
              <a:xfrm>
                <a:off x="8489520" y="3955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文本框 24592"/>
              <p:cNvSpPr/>
              <p:nvPr/>
            </p:nvSpPr>
            <p:spPr>
              <a:xfrm>
                <a:off x="8483400" y="3600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直接连接符 24593"/>
              <p:cNvSpPr/>
              <p:nvPr/>
            </p:nvSpPr>
            <p:spPr>
              <a:xfrm>
                <a:off x="8498880" y="4019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90" name="组合 24594"/>
            <p:cNvGrpSpPr/>
            <p:nvPr/>
          </p:nvGrpSpPr>
          <p:grpSpPr>
            <a:xfrm>
              <a:off x="7513560" y="4154400"/>
              <a:ext cx="510480" cy="815040"/>
              <a:chOff x="7513560" y="4154400"/>
              <a:chExt cx="510480" cy="815040"/>
            </a:xfrm>
          </p:grpSpPr>
          <p:sp>
            <p:nvSpPr>
              <p:cNvPr id="1691" name="文本框 24595"/>
              <p:cNvSpPr/>
              <p:nvPr/>
            </p:nvSpPr>
            <p:spPr>
              <a:xfrm>
                <a:off x="7519680" y="45097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文本框 24596"/>
              <p:cNvSpPr/>
              <p:nvPr/>
            </p:nvSpPr>
            <p:spPr>
              <a:xfrm>
                <a:off x="7513560" y="4154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直接连接符 24597"/>
              <p:cNvSpPr/>
              <p:nvPr/>
            </p:nvSpPr>
            <p:spPr>
              <a:xfrm>
                <a:off x="7529040" y="45734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5" name="组合 25602"/>
          <p:cNvGrpSpPr/>
          <p:nvPr/>
        </p:nvGrpSpPr>
        <p:grpSpPr>
          <a:xfrm>
            <a:off x="46080" y="3417840"/>
            <a:ext cx="5715000" cy="2571120"/>
            <a:chOff x="46080" y="3417840"/>
            <a:chExt cx="5715000" cy="2571120"/>
          </a:xfrm>
        </p:grpSpPr>
        <p:grpSp>
          <p:nvGrpSpPr>
            <p:cNvPr id="1696" name="组合 25603"/>
            <p:cNvGrpSpPr/>
            <p:nvPr/>
          </p:nvGrpSpPr>
          <p:grpSpPr>
            <a:xfrm>
              <a:off x="46080" y="3417840"/>
              <a:ext cx="5715000" cy="2571120"/>
              <a:chOff x="46080" y="3417840"/>
              <a:chExt cx="5715000" cy="2571120"/>
            </a:xfrm>
          </p:grpSpPr>
          <p:sp>
            <p:nvSpPr>
              <p:cNvPr id="1697" name="Text Box 8"/>
              <p:cNvSpPr/>
              <p:nvPr/>
            </p:nvSpPr>
            <p:spPr>
              <a:xfrm>
                <a:off x="4608720" y="4630680"/>
                <a:ext cx="115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万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8" name="直接连接符 90"/>
              <p:cNvSpPr/>
              <p:nvPr/>
            </p:nvSpPr>
            <p:spPr>
              <a:xfrm>
                <a:off x="3337200" y="5171760"/>
                <a:ext cx="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9" name="直接连接符 92"/>
              <p:cNvSpPr/>
              <p:nvPr/>
            </p:nvSpPr>
            <p:spPr>
              <a:xfrm flipH="1">
                <a:off x="2183040" y="5179680"/>
                <a:ext cx="144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0" name="直接连接符 93"/>
              <p:cNvSpPr/>
              <p:nvPr/>
            </p:nvSpPr>
            <p:spPr>
              <a:xfrm>
                <a:off x="3867480" y="518148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1" name="直接连接符 94"/>
              <p:cNvSpPr/>
              <p:nvPr/>
            </p:nvSpPr>
            <p:spPr>
              <a:xfrm flipH="1">
                <a:off x="2759400" y="5170320"/>
                <a:ext cx="144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02" name="组合 25609"/>
              <p:cNvGrpSpPr/>
              <p:nvPr/>
            </p:nvGrpSpPr>
            <p:grpSpPr>
              <a:xfrm>
                <a:off x="46080" y="3417840"/>
                <a:ext cx="4562640" cy="2571120"/>
                <a:chOff x="46080" y="3417840"/>
                <a:chExt cx="4562640" cy="2571120"/>
              </a:xfrm>
            </p:grpSpPr>
            <p:pic>
              <p:nvPicPr>
                <p:cNvPr id="1703" name="Object 1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41680" y="4429080"/>
                  <a:ext cx="2746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4" name="TextBox 66"/>
                <p:cNvSpPr/>
                <p:nvPr/>
              </p:nvSpPr>
              <p:spPr>
                <a:xfrm>
                  <a:off x="2575080" y="3417840"/>
                  <a:ext cx="1035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“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5" name="TextBox 102"/>
                <p:cNvSpPr/>
                <p:nvPr/>
              </p:nvSpPr>
              <p:spPr>
                <a:xfrm>
                  <a:off x="46080" y="3836880"/>
                  <a:ext cx="248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下半年产量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6" name="TextBox 103"/>
                <p:cNvSpPr/>
                <p:nvPr/>
              </p:nvSpPr>
              <p:spPr>
                <a:xfrm>
                  <a:off x="46080" y="4930560"/>
                  <a:ext cx="190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上半年产量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7" name="TextBox 69"/>
                <p:cNvSpPr/>
                <p:nvPr/>
              </p:nvSpPr>
              <p:spPr>
                <a:xfrm>
                  <a:off x="2581560" y="5529240"/>
                  <a:ext cx="103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？万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pic>
              <p:nvPicPr>
                <p:cNvPr id="1708" name="左大括号 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98840" y="5383080"/>
                  <a:ext cx="2155680" cy="26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9" name="TextBox 51"/>
                <p:cNvSpPr/>
                <p:nvPr/>
              </p:nvSpPr>
              <p:spPr>
                <a:xfrm>
                  <a:off x="2859120" y="4343400"/>
                  <a:ext cx="104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？万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10" name="组合 87"/>
                <p:cNvGrpSpPr/>
                <p:nvPr/>
              </p:nvGrpSpPr>
              <p:grpSpPr>
                <a:xfrm>
                  <a:off x="1668240" y="4114800"/>
                  <a:ext cx="2735640" cy="95040"/>
                  <a:chOff x="1668240" y="4114800"/>
                  <a:chExt cx="2735640" cy="95040"/>
                </a:xfrm>
              </p:grpSpPr>
              <p:sp>
                <p:nvSpPr>
                  <p:cNvPr id="1711" name="直接连接符 71"/>
                  <p:cNvSpPr/>
                  <p:nvPr/>
                </p:nvSpPr>
                <p:spPr>
                  <a:xfrm>
                    <a:off x="1669680" y="4209120"/>
                    <a:ext cx="273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2" name="直接连接符 72"/>
                  <p:cNvSpPr/>
                  <p:nvPr/>
                </p:nvSpPr>
                <p:spPr>
                  <a:xfrm flipH="1">
                    <a:off x="166824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3" name="直接连接符 73"/>
                  <p:cNvSpPr/>
                  <p:nvPr/>
                </p:nvSpPr>
                <p:spPr>
                  <a:xfrm flipH="1">
                    <a:off x="3855600" y="411480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4" name="直接连接符 74"/>
                  <p:cNvSpPr/>
                  <p:nvPr/>
                </p:nvSpPr>
                <p:spPr>
                  <a:xfrm flipH="1">
                    <a:off x="221508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5" name="直接连接符 75"/>
                  <p:cNvSpPr/>
                  <p:nvPr/>
                </p:nvSpPr>
                <p:spPr>
                  <a:xfrm flipH="1">
                    <a:off x="276192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6" name="直接连接符 76"/>
                  <p:cNvSpPr/>
                  <p:nvPr/>
                </p:nvSpPr>
                <p:spPr>
                  <a:xfrm flipH="1">
                    <a:off x="4402440" y="411480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7" name="直接连接符 77"/>
                  <p:cNvSpPr/>
                  <p:nvPr/>
                </p:nvSpPr>
                <p:spPr>
                  <a:xfrm flipH="1">
                    <a:off x="330912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18" name="直接连接符 88"/>
                <p:cNvSpPr/>
                <p:nvPr/>
              </p:nvSpPr>
              <p:spPr>
                <a:xfrm>
                  <a:off x="1678320" y="5267160"/>
                  <a:ext cx="220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9" name="左大括号 110"/>
                <p:cNvSpPr/>
                <p:nvPr/>
              </p:nvSpPr>
              <p:spPr>
                <a:xfrm rot="16200000">
                  <a:off x="2987280" y="3008880"/>
                  <a:ext cx="95040" cy="2735280"/>
                </a:xfrm>
                <a:custGeom>
                  <a:avLst/>
                  <a:gdLst>
                    <a:gd name="textAreaLeft" fmla="*/ 60840 w 95040"/>
                    <a:gd name="textAreaRight" fmla="*/ 95400 w 95040"/>
                    <a:gd name="textAreaTop" fmla="*/ 11160 h 2735280"/>
                    <a:gd name="textAreaBottom" fmla="*/ 2724120 h 273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145"/>
                        <a:pt x="10800" y="290"/>
                      </a:cubicBezTo>
                      <a:lnTo>
                        <a:pt x="10800" y="10510"/>
                      </a:lnTo>
                      <a:cubicBezTo>
                        <a:pt x="10800" y="10655"/>
                        <a:pt x="5400" y="10800"/>
                        <a:pt x="0" y="10800"/>
                      </a:cubicBezTo>
                      <a:cubicBezTo>
                        <a:pt x="5400" y="10800"/>
                        <a:pt x="10800" y="10945"/>
                        <a:pt x="10800" y="11090"/>
                      </a:cubicBezTo>
                      <a:lnTo>
                        <a:pt x="10800" y="21310"/>
                      </a:lnTo>
                      <a:cubicBezTo>
                        <a:pt x="10800" y="21455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0" name="AutoShape 32"/>
                <p:cNvSpPr/>
                <p:nvPr/>
              </p:nvSpPr>
              <p:spPr>
                <a:xfrm>
                  <a:off x="4465800" y="4257360"/>
                  <a:ext cx="142920" cy="1152720"/>
                </a:xfrm>
                <a:custGeom>
                  <a:avLst/>
                  <a:gdLst>
                    <a:gd name="textAreaLeft" fmla="*/ 0 w 142920"/>
                    <a:gd name="textAreaRight" fmla="*/ 51480 w 142920"/>
                    <a:gd name="textAreaTop" fmla="*/ 29880 h 1152720"/>
                    <a:gd name="textAreaBottom" fmla="*/ 1122840 h 115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1" name="AutoShape 33"/>
                <p:cNvSpPr/>
                <p:nvPr/>
              </p:nvSpPr>
              <p:spPr>
                <a:xfrm rot="16200000">
                  <a:off x="2721960" y="3956400"/>
                  <a:ext cx="104760" cy="2144520"/>
                </a:xfrm>
                <a:custGeom>
                  <a:avLst/>
                  <a:gdLst>
                    <a:gd name="textAreaLeft" fmla="*/ 0 w 104760"/>
                    <a:gd name="textAreaRight" fmla="*/ 37800 w 104760"/>
                    <a:gd name="textAreaTop" fmla="*/ 55800 h 2144520"/>
                    <a:gd name="textAreaBottom" fmla="*/ 2088720 h 214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722" name="AutoShape 105"/>
            <p:cNvSpPr/>
            <p:nvPr/>
          </p:nvSpPr>
          <p:spPr>
            <a:xfrm rot="16200000">
              <a:off x="2941560" y="2566080"/>
              <a:ext cx="142920" cy="266400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69120 h 2664000"/>
                <a:gd name="textAreaBottom" fmla="*/ 259488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3" name="直接连接符 91"/>
            <p:cNvSpPr/>
            <p:nvPr/>
          </p:nvSpPr>
          <p:spPr>
            <a:xfrm flipH="1">
              <a:off x="1679760" y="5170320"/>
              <a:ext cx="1440" cy="95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4" name="Text Box 67"/>
          <p:cNvSpPr/>
          <p:nvPr/>
        </p:nvSpPr>
        <p:spPr>
          <a:xfrm>
            <a:off x="4680000" y="3213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全年产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5" name="Text Box 68"/>
          <p:cNvSpPr/>
          <p:nvPr/>
        </p:nvSpPr>
        <p:spPr>
          <a:xfrm>
            <a:off x="250920" y="310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6" name="组合 25633"/>
          <p:cNvGrpSpPr/>
          <p:nvPr/>
        </p:nvGrpSpPr>
        <p:grpSpPr>
          <a:xfrm>
            <a:off x="611280" y="1557360"/>
            <a:ext cx="5761080" cy="1508760"/>
            <a:chOff x="611280" y="1557360"/>
            <a:chExt cx="5761080" cy="1508760"/>
          </a:xfrm>
        </p:grpSpPr>
        <p:sp>
          <p:nvSpPr>
            <p:cNvPr id="1727" name="Text Box 51"/>
            <p:cNvSpPr/>
            <p:nvPr/>
          </p:nvSpPr>
          <p:spPr>
            <a:xfrm>
              <a:off x="611280" y="1557360"/>
              <a:ext cx="576108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某电视厂去年全年生产电视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万台，其中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产量是下半年的     。这个电视机厂去年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和下半年的产量分别是多少万台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8" name="组合 25635"/>
            <p:cNvGrpSpPr/>
            <p:nvPr/>
          </p:nvGrpSpPr>
          <p:grpSpPr>
            <a:xfrm>
              <a:off x="3321000" y="1911240"/>
              <a:ext cx="511200" cy="815040"/>
              <a:chOff x="3321000" y="1911240"/>
              <a:chExt cx="511200" cy="815040"/>
            </a:xfrm>
          </p:grpSpPr>
          <p:sp>
            <p:nvSpPr>
              <p:cNvPr id="1729" name="文本框 25636"/>
              <p:cNvSpPr/>
              <p:nvPr/>
            </p:nvSpPr>
            <p:spPr>
              <a:xfrm>
                <a:off x="3327480" y="2266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0" name="文本框 25637"/>
              <p:cNvSpPr/>
              <p:nvPr/>
            </p:nvSpPr>
            <p:spPr>
              <a:xfrm>
                <a:off x="3321000" y="191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1" name="直接连接符 25638"/>
              <p:cNvSpPr/>
              <p:nvPr/>
            </p:nvSpPr>
            <p:spPr>
              <a:xfrm>
                <a:off x="3336840" y="2330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32" name="组合 25639"/>
          <p:cNvGrpSpPr/>
          <p:nvPr/>
        </p:nvGrpSpPr>
        <p:grpSpPr>
          <a:xfrm>
            <a:off x="5126040" y="3656160"/>
            <a:ext cx="3714840" cy="2996280"/>
            <a:chOff x="5126040" y="3656160"/>
            <a:chExt cx="3714840" cy="2996280"/>
          </a:xfrm>
        </p:grpSpPr>
        <p:sp>
          <p:nvSpPr>
            <p:cNvPr id="1733" name="TextBox 22"/>
            <p:cNvSpPr/>
            <p:nvPr/>
          </p:nvSpPr>
          <p:spPr>
            <a:xfrm>
              <a:off x="5126040" y="3656160"/>
              <a:ext cx="37148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下半年生产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，则上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半年生产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 ×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万台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34" name="组合 25641"/>
            <p:cNvGrpSpPr/>
            <p:nvPr/>
          </p:nvGrpSpPr>
          <p:grpSpPr>
            <a:xfrm>
              <a:off x="6786720" y="3868560"/>
              <a:ext cx="510480" cy="815040"/>
              <a:chOff x="6786720" y="3868560"/>
              <a:chExt cx="510480" cy="815040"/>
            </a:xfrm>
          </p:grpSpPr>
          <p:sp>
            <p:nvSpPr>
              <p:cNvPr id="1735" name="文本框 25642"/>
              <p:cNvSpPr/>
              <p:nvPr/>
            </p:nvSpPr>
            <p:spPr>
              <a:xfrm>
                <a:off x="6792840" y="42238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6" name="文本框 25643"/>
              <p:cNvSpPr/>
              <p:nvPr/>
            </p:nvSpPr>
            <p:spPr>
              <a:xfrm>
                <a:off x="6786720" y="38685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7" name="直接连接符 25644"/>
              <p:cNvSpPr/>
              <p:nvPr/>
            </p:nvSpPr>
            <p:spPr>
              <a:xfrm>
                <a:off x="6802200" y="4287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8" name="组合 25645"/>
            <p:cNvGrpSpPr/>
            <p:nvPr/>
          </p:nvGrpSpPr>
          <p:grpSpPr>
            <a:xfrm>
              <a:off x="6354720" y="4290840"/>
              <a:ext cx="511200" cy="815040"/>
              <a:chOff x="6354720" y="4290840"/>
              <a:chExt cx="511200" cy="815040"/>
            </a:xfrm>
          </p:grpSpPr>
          <p:sp>
            <p:nvSpPr>
              <p:cNvPr id="1739" name="文本框 25646"/>
              <p:cNvSpPr/>
              <p:nvPr/>
            </p:nvSpPr>
            <p:spPr>
              <a:xfrm>
                <a:off x="6361200" y="4646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0" name="文本框 25647"/>
              <p:cNvSpPr/>
              <p:nvPr/>
            </p:nvSpPr>
            <p:spPr>
              <a:xfrm>
                <a:off x="6354720" y="42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1" name="直接连接符 25648"/>
              <p:cNvSpPr/>
              <p:nvPr/>
            </p:nvSpPr>
            <p:spPr>
              <a:xfrm>
                <a:off x="6370560" y="4709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42" name="组合 25649"/>
            <p:cNvGrpSpPr/>
            <p:nvPr/>
          </p:nvGrpSpPr>
          <p:grpSpPr>
            <a:xfrm>
              <a:off x="6350040" y="4889520"/>
              <a:ext cx="511200" cy="815040"/>
              <a:chOff x="6350040" y="4889520"/>
              <a:chExt cx="511200" cy="815040"/>
            </a:xfrm>
          </p:grpSpPr>
          <p:sp>
            <p:nvSpPr>
              <p:cNvPr id="1743" name="文本框 25650"/>
              <p:cNvSpPr/>
              <p:nvPr/>
            </p:nvSpPr>
            <p:spPr>
              <a:xfrm>
                <a:off x="6356520" y="5244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4" name="文本框 25651"/>
              <p:cNvSpPr/>
              <p:nvPr/>
            </p:nvSpPr>
            <p:spPr>
              <a:xfrm>
                <a:off x="6350040" y="4889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5" name="直接连接符 25652"/>
              <p:cNvSpPr/>
              <p:nvPr/>
            </p:nvSpPr>
            <p:spPr>
              <a:xfrm>
                <a:off x="6365880" y="5308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46" name="组合 25653"/>
            <p:cNvGrpSpPr/>
            <p:nvPr/>
          </p:nvGrpSpPr>
          <p:grpSpPr>
            <a:xfrm>
              <a:off x="6742080" y="5837400"/>
              <a:ext cx="511200" cy="815040"/>
              <a:chOff x="6742080" y="5837400"/>
              <a:chExt cx="511200" cy="815040"/>
            </a:xfrm>
          </p:grpSpPr>
          <p:sp>
            <p:nvSpPr>
              <p:cNvPr id="1747" name="文本框 25654"/>
              <p:cNvSpPr/>
              <p:nvPr/>
            </p:nvSpPr>
            <p:spPr>
              <a:xfrm>
                <a:off x="6748560" y="619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8" name="文本框 25655"/>
              <p:cNvSpPr/>
              <p:nvPr/>
            </p:nvSpPr>
            <p:spPr>
              <a:xfrm>
                <a:off x="6742080" y="5837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9" name="直接连接符 25656"/>
              <p:cNvSpPr/>
              <p:nvPr/>
            </p:nvSpPr>
            <p:spPr>
              <a:xfrm>
                <a:off x="6757920" y="6256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750" name="图片 25657" descr="u3jx05_8、9副本"/>
          <p:cNvPicPr/>
          <p:nvPr/>
        </p:nvPicPr>
        <p:blipFill>
          <a:blip r:embed="rId3"/>
          <a:stretch/>
        </p:blipFill>
        <p:spPr>
          <a:xfrm>
            <a:off x="6516720" y="148428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2" name="Text Box 40"/>
          <p:cNvSpPr/>
          <p:nvPr/>
        </p:nvSpPr>
        <p:spPr>
          <a:xfrm>
            <a:off x="961920" y="602280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果把上半年的产量看作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那么下半年的产量是上半年的几分之几？应该怎样设未知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3" name="TextBox 39"/>
          <p:cNvSpPr/>
          <p:nvPr/>
        </p:nvSpPr>
        <p:spPr>
          <a:xfrm>
            <a:off x="176040" y="5999040"/>
            <a:ext cx="14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4" name="Text Box 45"/>
          <p:cNvSpPr/>
          <p:nvPr/>
        </p:nvSpPr>
        <p:spPr>
          <a:xfrm>
            <a:off x="4680000" y="28526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全年产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5" name="Text Box 46"/>
          <p:cNvSpPr/>
          <p:nvPr/>
        </p:nvSpPr>
        <p:spPr>
          <a:xfrm>
            <a:off x="250920" y="30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56" name="组合 26630"/>
          <p:cNvGrpSpPr/>
          <p:nvPr/>
        </p:nvGrpSpPr>
        <p:grpSpPr>
          <a:xfrm>
            <a:off x="142920" y="3373560"/>
            <a:ext cx="5857920" cy="2482200"/>
            <a:chOff x="142920" y="3373560"/>
            <a:chExt cx="5857920" cy="2482200"/>
          </a:xfrm>
        </p:grpSpPr>
        <p:grpSp>
          <p:nvGrpSpPr>
            <p:cNvPr id="1757" name="组合 26631"/>
            <p:cNvGrpSpPr/>
            <p:nvPr/>
          </p:nvGrpSpPr>
          <p:grpSpPr>
            <a:xfrm>
              <a:off x="142920" y="3373560"/>
              <a:ext cx="5857920" cy="2096640"/>
              <a:chOff x="142920" y="3373560"/>
              <a:chExt cx="5857920" cy="2096640"/>
            </a:xfrm>
          </p:grpSpPr>
          <p:sp>
            <p:nvSpPr>
              <p:cNvPr id="1758" name="Text Box 8"/>
              <p:cNvSpPr/>
              <p:nvPr/>
            </p:nvSpPr>
            <p:spPr>
              <a:xfrm>
                <a:off x="4776840" y="428688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万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TextBox 66"/>
              <p:cNvSpPr/>
              <p:nvPr/>
            </p:nvSpPr>
            <p:spPr>
              <a:xfrm>
                <a:off x="2435400" y="3373560"/>
                <a:ext cx="105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0" name="TextBox 102"/>
              <p:cNvSpPr/>
              <p:nvPr/>
            </p:nvSpPr>
            <p:spPr>
              <a:xfrm>
                <a:off x="142920" y="4960440"/>
                <a:ext cx="21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下半年产量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1" name="TextBox 103"/>
              <p:cNvSpPr/>
              <p:nvPr/>
            </p:nvSpPr>
            <p:spPr>
              <a:xfrm>
                <a:off x="142920" y="37962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上半年产量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2" name="TextBox 69"/>
              <p:cNvSpPr/>
              <p:nvPr/>
            </p:nvSpPr>
            <p:spPr>
              <a:xfrm>
                <a:off x="2357280" y="4286880"/>
                <a:ext cx="110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？万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763" name="左大括号 47" descr=""/>
              <p:cNvPicPr/>
              <p:nvPr/>
            </p:nvPicPr>
            <p:blipFill>
              <a:blip r:embed="rId1"/>
              <a:stretch/>
            </p:blipFill>
            <p:spPr>
              <a:xfrm>
                <a:off x="1803240" y="4192920"/>
                <a:ext cx="2140200" cy="26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4" name="组合 87"/>
              <p:cNvGrpSpPr/>
              <p:nvPr/>
            </p:nvGrpSpPr>
            <p:grpSpPr>
              <a:xfrm>
                <a:off x="1828800" y="5162400"/>
                <a:ext cx="2739600" cy="95400"/>
                <a:chOff x="1828800" y="5162400"/>
                <a:chExt cx="2739600" cy="95400"/>
              </a:xfrm>
            </p:grpSpPr>
            <p:sp>
              <p:nvSpPr>
                <p:cNvPr id="1765" name="直接连接符 71"/>
                <p:cNvSpPr/>
                <p:nvPr/>
              </p:nvSpPr>
              <p:spPr>
                <a:xfrm>
                  <a:off x="1828800" y="5257080"/>
                  <a:ext cx="2733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6" name="直接连接符 72"/>
                <p:cNvSpPr/>
                <p:nvPr/>
              </p:nvSpPr>
              <p:spPr>
                <a:xfrm flipH="1">
                  <a:off x="183636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7" name="直接连接符 73"/>
                <p:cNvSpPr/>
                <p:nvPr/>
              </p:nvSpPr>
              <p:spPr>
                <a:xfrm flipH="1">
                  <a:off x="4020840" y="516240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8" name="直接连接符 74"/>
                <p:cNvSpPr/>
                <p:nvPr/>
              </p:nvSpPr>
              <p:spPr>
                <a:xfrm flipH="1">
                  <a:off x="238248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9" name="直接连接符 75"/>
                <p:cNvSpPr/>
                <p:nvPr/>
              </p:nvSpPr>
              <p:spPr>
                <a:xfrm flipH="1">
                  <a:off x="292896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0" name="直接连接符 76"/>
                <p:cNvSpPr/>
                <p:nvPr/>
              </p:nvSpPr>
              <p:spPr>
                <a:xfrm flipH="1">
                  <a:off x="4567320" y="516240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1" name="直接连接符 77"/>
                <p:cNvSpPr/>
                <p:nvPr/>
              </p:nvSpPr>
              <p:spPr>
                <a:xfrm flipH="1">
                  <a:off x="347544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72" name="直接连接符 88"/>
              <p:cNvSpPr/>
              <p:nvPr/>
            </p:nvSpPr>
            <p:spPr>
              <a:xfrm>
                <a:off x="1774800" y="4077000"/>
                <a:ext cx="220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左大括号 110"/>
              <p:cNvSpPr/>
              <p:nvPr/>
            </p:nvSpPr>
            <p:spPr>
              <a:xfrm rot="16200000">
                <a:off x="3156840" y="4055040"/>
                <a:ext cx="95040" cy="2735280"/>
              </a:xfrm>
              <a:custGeom>
                <a:avLst/>
                <a:gdLst>
                  <a:gd name="textAreaLeft" fmla="*/ 60840 w 95040"/>
                  <a:gd name="textAreaRight" fmla="*/ 95400 w 95040"/>
                  <a:gd name="textAreaTop" fmla="*/ 11160 h 2735280"/>
                  <a:gd name="textAreaBottom" fmla="*/ 2724120 h 273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45"/>
                      <a:pt x="10800" y="290"/>
                    </a:cubicBezTo>
                    <a:lnTo>
                      <a:pt x="10800" y="10510"/>
                    </a:lnTo>
                    <a:cubicBezTo>
                      <a:pt x="10800" y="10655"/>
                      <a:pt x="5400" y="10800"/>
                      <a:pt x="0" y="10800"/>
                    </a:cubicBezTo>
                    <a:cubicBezTo>
                      <a:pt x="5400" y="10800"/>
                      <a:pt x="10800" y="10945"/>
                      <a:pt x="10800" y="11090"/>
                    </a:cubicBezTo>
                    <a:lnTo>
                      <a:pt x="10800" y="21310"/>
                    </a:lnTo>
                    <a:cubicBezTo>
                      <a:pt x="10800" y="2145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4" name="AutoShape 32"/>
              <p:cNvSpPr/>
              <p:nvPr/>
            </p:nvSpPr>
            <p:spPr>
              <a:xfrm>
                <a:off x="4633920" y="3920040"/>
                <a:ext cx="152280" cy="13676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2040 h 1367640"/>
                  <a:gd name="textAreaBottom" fmla="*/ 1335600 h 136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09"/>
                      <a:pt x="10800" y="1618"/>
                    </a:cubicBezTo>
                    <a:lnTo>
                      <a:pt x="10800" y="9182"/>
                    </a:lnTo>
                    <a:cubicBezTo>
                      <a:pt x="10800" y="9991"/>
                      <a:pt x="16200" y="10800"/>
                      <a:pt x="21600" y="10800"/>
                    </a:cubicBezTo>
                    <a:cubicBezTo>
                      <a:pt x="16200" y="10800"/>
                      <a:pt x="10800" y="11609"/>
                      <a:pt x="10800" y="12418"/>
                    </a:cubicBezTo>
                    <a:lnTo>
                      <a:pt x="10800" y="19982"/>
                    </a:lnTo>
                    <a:cubicBezTo>
                      <a:pt x="10800" y="2079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5" name="AutoShape 33"/>
              <p:cNvSpPr/>
              <p:nvPr/>
            </p:nvSpPr>
            <p:spPr>
              <a:xfrm rot="16200000">
                <a:off x="2818440" y="2764080"/>
                <a:ext cx="104760" cy="2144880"/>
              </a:xfrm>
              <a:custGeom>
                <a:avLst/>
                <a:gdLst>
                  <a:gd name="textAreaLeft" fmla="*/ 0 w 104760"/>
                  <a:gd name="textAreaRight" fmla="*/ 37800 w 104760"/>
                  <a:gd name="textAreaTop" fmla="*/ 55800 h 2144880"/>
                  <a:gd name="textAreaBottom" fmla="*/ 2089080 h 214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6" name="AutoShape 33"/>
              <p:cNvSpPr/>
              <p:nvPr/>
            </p:nvSpPr>
            <p:spPr>
              <a:xfrm rot="16200000">
                <a:off x="3124440" y="3688560"/>
                <a:ext cx="176040" cy="2716200"/>
              </a:xfrm>
              <a:custGeom>
                <a:avLst/>
                <a:gdLst>
                  <a:gd name="textAreaLeft" fmla="*/ 0 w 176040"/>
                  <a:gd name="textAreaRight" fmla="*/ 63360 w 176040"/>
                  <a:gd name="textAreaTop" fmla="*/ 93960 h 2716200"/>
                  <a:gd name="textAreaBottom" fmla="*/ 2622240 h 271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195"/>
                      <a:pt x="10800" y="2389"/>
                    </a:cubicBezTo>
                    <a:lnTo>
                      <a:pt x="10800" y="8411"/>
                    </a:lnTo>
                    <a:cubicBezTo>
                      <a:pt x="10800" y="9606"/>
                      <a:pt x="16200" y="10800"/>
                      <a:pt x="21600" y="10800"/>
                    </a:cubicBezTo>
                    <a:cubicBezTo>
                      <a:pt x="16200" y="10800"/>
                      <a:pt x="10800" y="11995"/>
                      <a:pt x="10800" y="13189"/>
                    </a:cubicBezTo>
                    <a:lnTo>
                      <a:pt x="10800" y="19211"/>
                    </a:lnTo>
                    <a:cubicBezTo>
                      <a:pt x="10800" y="20406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777" name="Objec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197160" y="4501440"/>
                <a:ext cx="24120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8" name="TextBox 51"/>
            <p:cNvSpPr/>
            <p:nvPr/>
          </p:nvSpPr>
          <p:spPr>
            <a:xfrm>
              <a:off x="2857680" y="539604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？万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直接连接符 90"/>
            <p:cNvSpPr/>
            <p:nvPr/>
          </p:nvSpPr>
          <p:spPr>
            <a:xfrm>
              <a:off x="3433680" y="3981600"/>
              <a:ext cx="0" cy="95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0" name="直接连接符 91"/>
            <p:cNvSpPr/>
            <p:nvPr/>
          </p:nvSpPr>
          <p:spPr>
            <a:xfrm flipH="1">
              <a:off x="1775880" y="3978360"/>
              <a:ext cx="1800" cy="95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1" name="直接连接符 92"/>
            <p:cNvSpPr/>
            <p:nvPr/>
          </p:nvSpPr>
          <p:spPr>
            <a:xfrm flipH="1">
              <a:off x="2279160" y="3987720"/>
              <a:ext cx="1800" cy="95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2" name="直接连接符 93"/>
            <p:cNvSpPr/>
            <p:nvPr/>
          </p:nvSpPr>
          <p:spPr>
            <a:xfrm>
              <a:off x="3963960" y="3990960"/>
              <a:ext cx="0" cy="95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3" name="直接连接符 94"/>
            <p:cNvSpPr/>
            <p:nvPr/>
          </p:nvSpPr>
          <p:spPr>
            <a:xfrm flipH="1">
              <a:off x="2855520" y="3978360"/>
              <a:ext cx="1800" cy="95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84" name="组合 26658"/>
          <p:cNvGrpSpPr/>
          <p:nvPr/>
        </p:nvGrpSpPr>
        <p:grpSpPr>
          <a:xfrm>
            <a:off x="611280" y="1512720"/>
            <a:ext cx="5761080" cy="1508760"/>
            <a:chOff x="611280" y="1512720"/>
            <a:chExt cx="5761080" cy="1508760"/>
          </a:xfrm>
        </p:grpSpPr>
        <p:sp>
          <p:nvSpPr>
            <p:cNvPr id="1785" name="Text Box 51"/>
            <p:cNvSpPr/>
            <p:nvPr/>
          </p:nvSpPr>
          <p:spPr>
            <a:xfrm>
              <a:off x="611280" y="1512720"/>
              <a:ext cx="576108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某电视厂去年全年生产电视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万台，其中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产量是下半年的     。这个电视机厂去年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和下半年的产量分别是多少万台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6" name="组合 26660"/>
            <p:cNvGrpSpPr/>
            <p:nvPr/>
          </p:nvGrpSpPr>
          <p:grpSpPr>
            <a:xfrm>
              <a:off x="3321000" y="1866600"/>
              <a:ext cx="511200" cy="815040"/>
              <a:chOff x="3321000" y="1866600"/>
              <a:chExt cx="511200" cy="815040"/>
            </a:xfrm>
          </p:grpSpPr>
          <p:sp>
            <p:nvSpPr>
              <p:cNvPr id="1787" name="文本框 26661"/>
              <p:cNvSpPr/>
              <p:nvPr/>
            </p:nvSpPr>
            <p:spPr>
              <a:xfrm>
                <a:off x="3327480" y="2221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8" name="文本框 26662"/>
              <p:cNvSpPr/>
              <p:nvPr/>
            </p:nvSpPr>
            <p:spPr>
              <a:xfrm>
                <a:off x="3321000" y="1866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9" name="直接连接符 26663"/>
              <p:cNvSpPr/>
              <p:nvPr/>
            </p:nvSpPr>
            <p:spPr>
              <a:xfrm>
                <a:off x="3336840" y="2285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90" name="组合 26664"/>
          <p:cNvGrpSpPr/>
          <p:nvPr/>
        </p:nvGrpSpPr>
        <p:grpSpPr>
          <a:xfrm>
            <a:off x="4932360" y="3243240"/>
            <a:ext cx="4464000" cy="2989440"/>
            <a:chOff x="4932360" y="3243240"/>
            <a:chExt cx="4464000" cy="2989440"/>
          </a:xfrm>
        </p:grpSpPr>
        <p:sp>
          <p:nvSpPr>
            <p:cNvPr id="1791" name="TextBox 22"/>
            <p:cNvSpPr/>
            <p:nvPr/>
          </p:nvSpPr>
          <p:spPr>
            <a:xfrm>
              <a:off x="4932360" y="3243240"/>
              <a:ext cx="446400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半年生产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，则下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年生产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万台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2" name="组合 26666"/>
            <p:cNvGrpSpPr/>
            <p:nvPr/>
          </p:nvGrpSpPr>
          <p:grpSpPr>
            <a:xfrm>
              <a:off x="6350040" y="3535200"/>
              <a:ext cx="511200" cy="815040"/>
              <a:chOff x="6350040" y="3535200"/>
              <a:chExt cx="511200" cy="815040"/>
            </a:xfrm>
          </p:grpSpPr>
          <p:sp>
            <p:nvSpPr>
              <p:cNvPr id="1793" name="文本框 26667"/>
              <p:cNvSpPr/>
              <p:nvPr/>
            </p:nvSpPr>
            <p:spPr>
              <a:xfrm>
                <a:off x="6356520" y="3890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4" name="文本框 26668"/>
              <p:cNvSpPr/>
              <p:nvPr/>
            </p:nvSpPr>
            <p:spPr>
              <a:xfrm>
                <a:off x="6350040" y="3535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5" name="直接连接符 26669"/>
              <p:cNvSpPr/>
              <p:nvPr/>
            </p:nvSpPr>
            <p:spPr>
              <a:xfrm>
                <a:off x="6365880" y="3954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96" name="组合 26670"/>
            <p:cNvGrpSpPr/>
            <p:nvPr/>
          </p:nvGrpSpPr>
          <p:grpSpPr>
            <a:xfrm>
              <a:off x="6432480" y="4084560"/>
              <a:ext cx="511200" cy="815040"/>
              <a:chOff x="6432480" y="4084560"/>
              <a:chExt cx="511200" cy="815040"/>
            </a:xfrm>
          </p:grpSpPr>
          <p:sp>
            <p:nvSpPr>
              <p:cNvPr id="1797" name="文本框 26671"/>
              <p:cNvSpPr/>
              <p:nvPr/>
            </p:nvSpPr>
            <p:spPr>
              <a:xfrm>
                <a:off x="6438960" y="443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8" name="文本框 26672"/>
              <p:cNvSpPr/>
              <p:nvPr/>
            </p:nvSpPr>
            <p:spPr>
              <a:xfrm>
                <a:off x="6432480" y="4084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9" name="直接连接符 26673"/>
              <p:cNvSpPr/>
              <p:nvPr/>
            </p:nvSpPr>
            <p:spPr>
              <a:xfrm>
                <a:off x="6448320" y="45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00" name="组合 26674"/>
            <p:cNvGrpSpPr/>
            <p:nvPr/>
          </p:nvGrpSpPr>
          <p:grpSpPr>
            <a:xfrm>
              <a:off x="6438960" y="4687920"/>
              <a:ext cx="511200" cy="815040"/>
              <a:chOff x="6438960" y="4687920"/>
              <a:chExt cx="511200" cy="815040"/>
            </a:xfrm>
          </p:grpSpPr>
          <p:sp>
            <p:nvSpPr>
              <p:cNvPr id="1801" name="文本框 26675"/>
              <p:cNvSpPr/>
              <p:nvPr/>
            </p:nvSpPr>
            <p:spPr>
              <a:xfrm>
                <a:off x="6445440" y="5043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2" name="文本框 26676"/>
              <p:cNvSpPr/>
              <p:nvPr/>
            </p:nvSpPr>
            <p:spPr>
              <a:xfrm>
                <a:off x="6438960" y="4687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3" name="直接连接符 26677"/>
              <p:cNvSpPr/>
              <p:nvPr/>
            </p:nvSpPr>
            <p:spPr>
              <a:xfrm>
                <a:off x="6454800" y="51069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804" name="图片 26678" descr="u3jx05_8、9副本"/>
          <p:cNvPicPr/>
          <p:nvPr/>
        </p:nvPicPr>
        <p:blipFill>
          <a:blip r:embed="rId3"/>
          <a:stretch/>
        </p:blipFill>
        <p:spPr>
          <a:xfrm>
            <a:off x="6516720" y="148428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07Z</dcterms:modified>
  <cp:revision>3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